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B60-C44A-465A-842E-28E51385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233-D594-4D80-8226-58452E25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F12-A066-496D-904B-1CC8E353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A13-DB01-4633-9EB1-AF143DC1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985-0876-4552-8006-4A88D6A7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C05-C083-468A-B2B5-6D909073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D68-E080-4082-839A-FB80E13A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866-F908-4273-B3DE-C82C1DBD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0FA-A5CA-484F-9C38-B754B105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5B5-21BE-489A-90B1-7BA9624C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8A3-E1AF-437A-BDA9-4BDE7529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4EF-CECC-4C66-9F35-0D16B29C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2F1D-1FA0-4C2E-95FD-406CEFE47894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A73B-1DC6-4EFF-B439-79FB60C99E8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2895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47960" y="5335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Market Mitigation Concept Group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Update-PUC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Rulemaking Meeting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4647960"/>
            <a:ext cx="7315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im Galvi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26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Goals and Objectiv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roduce the Market Mitigation Concept Grou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vide a brief background and summary of the dynamics of the grou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vide a status on the Market Mitigation Whitepap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roduce key issues from Market Participant perspectiv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3453-2C40-43F3-A4B2-550DB44258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MMCG Meeting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ket Mitigation Concept Group has held several meetings over the last few month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eetings are well attended with each market segment and Commission staff represent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cus has been on shadowing the Market Operations and Congestion Management Concept Group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gnificant work has been placed in drafting and editing the Market Mitigation Whitepap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B46-17F0-4715-8DBD-FFA44DAC95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Market Mitigation Whitepaper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itepaper will provide a foundation for the design concept of mitigation rul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itepaper will provide draft language for incorporation into the draft Protocols for the new Market Desig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itepaper will provide some useful background and structure in PUCT Rulemaking on Mitig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itepaper may incorporate or provide substance to Market Monitoring framewor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C33-3CE2-4D2D-A877-76DB5F77EC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Market Mitigation Whitepaper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Purpose as drafted in the whitepaper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tection from Market Power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intain market based price sig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tection against design imper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 incentives for ineffici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Justifiable and reasonable price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ransparency and auto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inimize or eliminate ex-post mitigatio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A11-9D3F-4736-8CAA-0B0629BD25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Key Issu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etitive Constraint vs. Non-competitive Constrai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etitive tes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rket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HI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itigated Bid Curv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urrogate Heat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echnology specific Heat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loor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A85-C5EF-4A9F-A008-87DE4A91BE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Key Issu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itigation Rules for Day-ahead RUC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itigation Rules for CR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n-bidding resour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ket Monitoring and the MOD Monitoring Pla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C4A-DA3A-41C3-827C-FEED8FAC1D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Laura </dc:creator>
  <dc:description/>
  <dc:language>en-US</dc:language>
  <cp:lastModifiedBy>TNT-101303</cp:lastModifiedBy>
  <dcterms:modified xsi:type="dcterms:W3CDTF">2004-02-27T15:54:59Z</dcterms:modified>
  <cp:revision>51</cp:revision>
  <dc:subject/>
  <dc:title>PowerPoint Presentation</dc:title>
</cp:coreProperties>
</file>