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06E8-B149-4707-9CE0-67E13B5D9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act on PC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EB41-3C64-4D6D-9984-CE2BCDBD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7543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5400720"/>
            <a:ext cx="7543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EC1-6DCC-4982-A684-EA20208F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54007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720" y="54007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CCF-79C6-43D2-83F8-FCD78C37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4640" y="47239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600" y="47239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54007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4640" y="54007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600" y="54007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080-B98F-4F24-904F-FCC00BAB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472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1640" y="304920"/>
            <a:ext cx="3886200" cy="162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54007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472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2E1-68AD-451E-B789-1FA7A065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79720" y="54007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5400720"/>
            <a:ext cx="7543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7543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5400720"/>
            <a:ext cx="7543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54007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79720" y="54007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64640" y="47239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5600" y="47239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54007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64640" y="54007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5600" y="5400720"/>
            <a:ext cx="24289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063-3BCF-4D5D-B9C5-6E5E6458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3E3-CD95-4C63-A2E5-FA31AC43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60D-DEF6-422F-BD1F-90F6816F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1640" y="304920"/>
            <a:ext cx="3886200" cy="162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461-D9CD-4E26-9EC4-EE2EB1DC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54007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23E-83C7-4F6B-8ADB-9978A5C2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720" y="54007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9EB-D40F-43DC-BFF2-43AA5BF2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720" y="4723920"/>
            <a:ext cx="3681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5400720"/>
            <a:ext cx="7543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847-1F5E-4E66-81FA-2B617EA6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2/18/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0CD2-2A9C-4700-A753-2AB52A039FA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ongestion Management Concept Group Update for TN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4572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an Jones/Marguerite Wagn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ruary 18, 200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72388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Straw Vote:  Deration Alternative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RR Deration Alternative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Deration, fully fund all CRRs and Uplift Costs to QSEs on a load ratio share ba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For: 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rate CRR holders on a pro-rata share of CRR ownership basis.  (Includes the idea of surpluses being held in a balancing account to balance out over a calendar period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For: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rate CRR holders on an actual impact based on SF of outaged elements to CRRs—PUCT/Dr. Oren Propos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For: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D10-5337-44F2-915B-0995018A7D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72388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Straw Vote:  Ownership Limit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wnership Limits: What ownership limits, if any, should be established for CRRs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 ownership limit—but increased market monitoring on entities which own over a certain limit on competitive constra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For: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X% on each directional network ele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For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X% on each directional “competitive” network element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For: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58D-F116-480D-B421-8C94A04720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9339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Specific Items for Consideration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ems for which general consensus was not reached or for which additional comments have been received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gates in Initial A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R D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R Ownership Lim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R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R Sett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122-E8AF-4F2A-8931-3593D55B30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7086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ut Over to CMCG Concept Documen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raft CRR Comprehensive Documen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iscussion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Voting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0CF-D603-4DFF-91F4-94FBA9211A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72388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lan of Action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MCG to meet on February 20 to discus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ing the results of the 2/18 TNT meeting into conceptua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ft paper on Hu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R Public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ion of source sink bids/offers for CRR auction where source/sink consists of more than one node (e.g., load z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ining punch list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act of DAM on CRR issu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d limits (# of bids) to ensure technical feasibility of CRR auc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ling Issu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Expansion and relationship to CR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items to be addressed by CMC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le of CMCG as conceptual design transitions to Protocol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12E-1753-4C78-9322-DC5CA4A01D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Questions and Discussion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2/9/04 Accomplishment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24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Unicode MS"/>
              </a:rPr>
              <a:t>Following up on 2-4 TNT, documented outstanding issues that need resolution before consensus can be reached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100000"/>
              </a:lnSpc>
              <a:spcBef>
                <a:spcPts val="624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Unicode MS"/>
              </a:rPr>
              <a:t>Load Zone Paper: Discussed NOIE Zones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lvl="1" marL="720720" indent="-277200"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pressions of Support for NOIE Zones included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24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tatement of fact that NOIEs are allowed to be bundled entities and have specific rights afforded to them under the la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ome Other Comments on NOIE zones: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24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pression of interest by Non-NOIE parties in having their own load zon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FDE-89AF-461B-AF96-8B9FC66510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2/9/04 Meeting Summary Ctd.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ssues discussed regarding Load Zones document might reasonably be grouped under three theme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rry Pick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Zone Choice Impacts Goals of No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tive Advantage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B8FB-45B6-462E-8B13-884125EAF5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2/9/04 Meeting Summary Ctd.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We addressed the concerns as follows:</a:t>
            </a:r>
            <a:endParaRPr b="0" lang="en-US" sz="29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Arial Unicode MS"/>
              </a:rPr>
              <a:t>Cherry Picking</a:t>
            </a:r>
            <a:endParaRPr b="0" lang="en-US" sz="29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Designated the one year opt in provision for NOIEs—as a voting item.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Arial Unicode MS"/>
              </a:rPr>
              <a:t>How Zone Choice Impacts Goals of Nodal</a:t>
            </a:r>
            <a:endParaRPr b="0" lang="en-US" sz="29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Limited Number of NOIE Zones to 20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Arial Unicode MS"/>
              </a:rPr>
              <a:t>Competitive Advantage</a:t>
            </a:r>
            <a:endParaRPr b="0" lang="en-US" sz="29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Included NOIE Zones in allocation uplif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F44-5164-48BF-B89C-4FBE7C7C56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2/9/04 Accomplishment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RR Concept Document Review, discussion NO substantive modification from document slated for discussion at 2-4 TNT (timing &amp; discussion on 2-4 did not allow for discussion of this document at that tim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ist of outstanding issues in Paper (Same as at 2/4 TNT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w Votes on Technical Issues where general consensus was reached on 1/26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ual/Monthly Auction Amounts—came to agreement on percentage of capacity auctioned by d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ily CRR Auction—not explicitly defined or rul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er PTP Obligations subject to credit requirements TB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w Votes on Technical Issues where resolution is still need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R Deration Alternativ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R Ownership Limi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gates in Initial CRR Auction? (consensus on designing the systems to accommodate the future offering of flowga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Outstanding Issu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RRs Settle—Shadow Price or Difference of LMP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387-28A7-476B-8715-0EC2A138CB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Load Zone Document Overview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Defines Competitive Zones as 2003 CSC Zones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Timeline for Zone Changes—3 years with Board Approval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New Bus addition--assigned to the TNM Load Zone with the closest matching Zonal LMP to the new bus LMP 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Defines Criteria for NOIE Zones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be a single NOIE or an aggregation of NO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of 20 NOIE zon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IEs with 2003 peak &gt; 2300 are automatically z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NOIEs are assigned to TNM LZ unless they proactively elect to be a NOIE load zone by August 1, 200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rged into appropriate TNM Load Zone upon opt-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be subject to zonal load ratio share uplift to the extent it ex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DD0-2950-4E77-BFF8-6D54C588BD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ut Over to Load Zone Documen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raft Load Zone Documen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iscussion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Voting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354-EAB2-4696-9A78-5C6465C2F7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RR Concept Paper Overview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RR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RR Types, Auction Amounts an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RR A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assigned CR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unding of CRRs in the Event of 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ket Sett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917-0A00-4C12-8E8B-BEEB642CC4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Straw Vote:  Flowgates in Initial Auction?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greement that:  ERCOT should design its systems to accommodate the future offering of flowgate right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flowgate rights be offered in initial auc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raw vote results from 1/26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ould ERCOT Offer Flowgate rights in the initial CRR auction? (This question does not preclude the potential use of flowgate type products for wind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ults of vote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Yes—support flowgates generally: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—don’t sell flowgates initially: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Opinion: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6FD-379F-4A1D-8FD2-AB41712FEA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22:28Z</dcterms:created>
  <dc:creator>Marguerite Wagner</dc:creator>
  <dc:description/>
  <dc:language>en-US</dc:language>
  <cp:lastModifiedBy>Marguerite Wagner</cp:lastModifiedBy>
  <dcterms:modified xsi:type="dcterms:W3CDTF">2004-02-17T20:49:49Z</dcterms:modified>
  <cp:revision>109</cp:revision>
  <dc:subject/>
  <dc:title>CMG Presentation 0923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73675862</vt:r8>
  </property>
  <property fmtid="{D5CDD505-2E9C-101B-9397-08002B2CF9AE}" pid="3" name="_AuthorEmail">
    <vt:lpwstr>mwagner@ercot.com</vt:lpwstr>
  </property>
  <property fmtid="{D5CDD505-2E9C-101B-9397-08002B2CF9AE}" pid="4" name="_AuthorEmailDisplayName">
    <vt:lpwstr>Wagner, Marguerite</vt:lpwstr>
  </property>
  <property fmtid="{D5CDD505-2E9C-101B-9397-08002B2CF9AE}" pid="5" name="_EmailSubject">
    <vt:lpwstr>punchy from lists</vt:lpwstr>
  </property>
</Properties>
</file>