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39B-37B3-4CCA-8C2A-CF8EE4FA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430-128B-4DA4-85AA-66A32D33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3AE-2C41-4A78-8A68-3B1C8F58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A54-6B02-4EB1-A28E-26BC8060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7D1-8094-470A-9B54-43778918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DBE-81B5-412E-A147-C8811761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E75-D9EE-4FA2-A9E7-F79BC626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69C-79FE-4F34-A21A-5DA82A09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94D-D101-4B08-8BF1-A81227EE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9EF-FA1B-40B1-9CAD-4C911459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C92-CAB1-4E1F-AD10-153DB6E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A2D-C337-46F5-8D34-D3302A0B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7258-44BC-47BE-861F-618D9DF95199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0A24-0179-4774-BA9B-E1DCD63753E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Market Mitigation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im Galvi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18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ast Meeting Dat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cept Group has made progress on the Market Mitigation whitepaper through commenting ph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esentation by Greg Ramon on the Comprehensive Market Design and Mitigation and Monitoring concep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sensus on the purpose of the whitepap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scussions on how to determine the test for competitive constraint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HI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Solution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ppears that all methods are similar and approach consistent results, but details continue to be vet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FE4-332E-4418-80FB-9F6639B852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complishment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ite Paper Draft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ulemaking for Market Mitigation will kickoff with the MMCG meeting on February 26, to be held at the PUCT, morning sess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fternoon session will be a MMCG working session to hopefully tie up loose ends in the white pap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25F-9BF0-4A4F-8A7E-0D9D47816A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Topics for Upcoming Meeting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termining details for the mitigated pr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type Heat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ogate Heat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nalization of Competitive Te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itigation and the Comprehensive Market Desig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ing final MMCG Whitepaper for vote to TNT no later than March 17 TNT General Meet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EBB-4061-4E65-8D14-2582D519AC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Future Meeting Dat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26, 2004- Meeting at PUCT to kickoff Market Mitigation rulemaking (morning) and working session (afternoo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11- prepare whitepaper for TNT General Sess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8B0-9973-45B4-8A0C-D3AE25F03B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ons for T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gin getting familiar with the latest draft of the whitepap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FF5-A4F7-421E-AB04-A0A27A7577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Laura </dc:creator>
  <dc:description/>
  <dc:language>en-US</dc:language>
  <cp:lastModifiedBy>TNT-101303</cp:lastModifiedBy>
  <dcterms:modified xsi:type="dcterms:W3CDTF">2004-02-17T22:10:04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3453261</vt:r8>
  </property>
  <property fmtid="{D5CDD505-2E9C-101B-9397-08002B2CF9AE}" pid="3" name="_AuthorEmail">
    <vt:lpwstr>jgalvin@ercot.com</vt:lpwstr>
  </property>
  <property fmtid="{D5CDD505-2E9C-101B-9397-08002B2CF9AE}" pid="4" name="_AuthorEmailDisplayName">
    <vt:lpwstr>Galvin, Jim</vt:lpwstr>
  </property>
  <property fmtid="{D5CDD505-2E9C-101B-9397-08002B2CF9AE}" pid="5" name="_EmailSubject">
    <vt:lpwstr>MMCG Update for TNT General Session Feb 18</vt:lpwstr>
  </property>
  <property fmtid="{D5CDD505-2E9C-101B-9397-08002B2CF9AE}" pid="6" name="_ReviewingToolsShownOnce">
    <vt:lpwstr/>
  </property>
</Properties>
</file>