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FA7-4B81-4B0F-8C7A-F98A3B19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735-2896-4E2E-8FF6-35E88898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0A1-F276-4ECC-A67B-201BEE17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9E4-1643-40B8-A79C-B3898ECB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B16-E13E-4391-90F5-0AB41C85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8542-6731-496C-98B3-6197A1F1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3B1-756E-4D58-9938-8F7B78CF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60D-E783-4C3B-9F29-B81C2A0A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1BF-16D3-4B8C-8865-F9CAE850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778B-A8A7-4583-A074-90829037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8A9-213E-474D-B48E-80F3249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480-04FC-4C69-957A-67C29615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7B47-8252-4491-A6D8-BB69A66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9EAF-3092-414C-84C0-5586114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33A5-5293-41B9-BD9B-F0DB6B5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92F7-08B5-4FCF-B18D-FD87272B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BAC6-D59C-4863-BA36-7AB9F3AD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056-9D8B-4C69-AA2A-CAAE81D4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4F1-6E20-47A4-A640-0AD8F3FA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573-6791-4411-8D78-57E7B71C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184-24CF-4DDB-9BEE-7CA6202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56B-FFC9-4336-BAC0-59626D2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A37-AD17-4A94-BDFC-10219197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2A5-7F28-482E-B3D0-3C3B6D11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1D7F-BA72-42B3-9769-E67C61656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A16A-22F9-446A-AEE9-A64A0003D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exas Nodal Marke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ration of CRR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ms Siddiqi, P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NT General 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4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 Game” if CRRs are not Dera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29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148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G1 bids its marginal cost of $20/MWh (=LM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1’s revenue = $20/MWh x 50MWh (for energy) + $30/MWh x 100MWh (for CRRs) = $4,000:       Some upl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G1 bids -$1000/MWh (=LM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[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 G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1’s revenue= -$1000/MWh x 50MWh (for energy)+ $1050/MWh x 100MWh (for CRRs) = $55,000:    Outrageous profits &amp; uplif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068640"/>
            <a:ext cx="7772400" cy="8190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904760" cy="125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72200" y="1282680"/>
            <a:ext cx="838080" cy="52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981080" y="1878120"/>
            <a:ext cx="762120" cy="45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172200" y="1878120"/>
            <a:ext cx="685800" cy="657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19520" y="2101680"/>
            <a:ext cx="327636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1765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: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M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002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1:110 MW@$20/M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4320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2:200MW@$50/M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18781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2:150 M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548080"/>
            <a:ext cx="14479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2819520"/>
            <a:ext cx="7617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RR:100 M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33520" y="2622600"/>
            <a:ext cx="739800" cy="133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00200" y="306864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: Local line is derated to 50MW and ISO doesn’t derate CRRs, time to make serious mon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EAA-1504-4F94-9387-79005763D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-collection of congestion charges (by under-selling of CRRs) to offset under-collection due to deration does not mitigate the “Dec Game” – it only hides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lifting” shortfalls due to derations may seem attractive to make CRRs more “perfect” hedges – but, as we’ve learned from OOME uplift, the uplifted cost may soon exceed one’s expected exposure to CRR 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RR deration is not adopted, then tightening offer floors are essential to mitigate the “Dec Gam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83D-1F11-4AB2-9511-33BC143D7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9:39:42Z</dcterms:created>
  <dc:creator>Shams Siddiqi</dc:creator>
  <dc:description/>
  <dc:language>en-US</dc:language>
  <cp:lastModifiedBy>TNT-101303</cp:lastModifiedBy>
  <cp:lastPrinted>2003-01-09T21:32:30Z</cp:lastPrinted>
  <dcterms:modified xsi:type="dcterms:W3CDTF">2004-02-18T17:33:31Z</dcterms:modified>
  <cp:revision>110</cp:revision>
  <dc:subject/>
  <dc:title>Doing Business in Entergy</dc:title>
</cp:coreProperties>
</file>