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405F-3A85-4939-8883-14E49A7A7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7924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160" y="3908520"/>
            <a:ext cx="7924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5F0D-76AE-43CB-8DD2-B0191F5C7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16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9396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902D-05E9-4318-971C-B466C19EB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264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892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1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264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892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AA1E-65F5-412D-85EC-04D7E12D2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331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904760" y="304560"/>
            <a:ext cx="65530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316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1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061B-8961-4D57-BE14-9DC846837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9396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3160" y="3908520"/>
            <a:ext cx="7924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7924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33160" y="3908520"/>
            <a:ext cx="7924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3316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9396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1264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892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331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1264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892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9369-CE45-4B68-AB08-D3C56C900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BA0E-AE21-43F0-B063-CE66C73F7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01D4-F865-4186-B43E-9D95F2314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04760" y="304560"/>
            <a:ext cx="65530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70FC-6BD1-4240-920A-87574283F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16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70E0-692B-47A2-9D2D-A288C1F11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9396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42C8-265F-4848-B2C9-B1669F96D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160" y="3908520"/>
            <a:ext cx="7924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8D8B-8C72-4E08-B5A1-9B547CF6B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4c65"/>
            </a:gs>
            <a:gs pos="100000">
              <a:srgbClr val="1d1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331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9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800000"/>
              </a:buClr>
              <a:buFont typeface="Times New Roman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E4457-DC09-4BCD-9213-DE295190D433}" type="datetime">
              <a:rPr b="0" lang="en-US" sz="1400" spc="-1" strike="noStrike">
                <a:solidFill>
                  <a:srgbClr val="ffffff"/>
                </a:solidFill>
                <a:latin typeface="Arial Narrow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55050-61AC-4AA9-A1B4-F4FBDCCC7B52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533520" y="304920"/>
            <a:ext cx="1218960" cy="10666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6" name=""/>
          <p:cNvSpPr/>
          <p:nvPr/>
        </p:nvSpPr>
        <p:spPr>
          <a:xfrm>
            <a:off x="2895480" y="624852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324480" y="624852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4c65"/>
            </a:gs>
            <a:gs pos="100000">
              <a:srgbClr val="1d1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1640" y="304920"/>
            <a:ext cx="38862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28600" y="297000"/>
            <a:ext cx="4191120" cy="40464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914400" y="4724280"/>
            <a:ext cx="0" cy="129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458200" y="4724280"/>
            <a:ext cx="0" cy="129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90000"/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800000"/>
              </a:buClr>
              <a:buFont typeface="Times New Roman"/>
              <a:buChar char="&gt;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4c65"/>
            </a:gs>
            <a:gs pos="100000">
              <a:srgbClr val="1d1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1640" y="304920"/>
            <a:ext cx="38862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Impact"/>
              </a:rPr>
              <a:t>Cost-Benefit  Concept Group 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Impact"/>
              </a:rPr>
              <a:t>Update</a:t>
            </a: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990720" y="4572000"/>
            <a:ext cx="73152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2170080"/>
                <a:tab algn="l" pos="382284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Rick Covington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Vikki Gates Cuddy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2170080"/>
                <a:tab algn="l" pos="382284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ebruary 18, 2004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4c65"/>
            </a:gs>
            <a:gs pos="100000">
              <a:srgbClr val="1d1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Accomplishments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he CBCG Selection Committee interviewed consultants bidding on the Cost Benefit study on February 9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 Narrow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 and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 Narrow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.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On February 11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 Narrow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the Selection Committee met and discussed the relative strengths and weaknesses of the four proposals.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here was a unanimous decision among the committee regarding the recommendation to take forward to the ERCOT Board.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4B4B-72EE-44A2-B072-C85D1F5327B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4c65"/>
            </a:gs>
            <a:gs pos="100000">
              <a:srgbClr val="1d1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Accomplishments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he Board reviewed the recommendation in executive session on February 17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 Narrow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.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he name of the selected consultant will not be released until contract negotiations are complete.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We are on schedule for the cost benefit study to begin the first week of March.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C737-DC6E-4B7A-9F50-B61969DD25B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4c65"/>
            </a:gs>
            <a:gs pos="100000">
              <a:srgbClr val="1d1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Selection Committee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Vikki and I would like to express our appreciation for the hard work of the Selection Committee members: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ndy J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effrey Hollig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nry Vad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y Tr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ohn Raine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evin Hans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ichard Greff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eve Wall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DDF0-6873-4639-8FFA-5964B57E642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4c65"/>
            </a:gs>
            <a:gs pos="100000">
              <a:srgbClr val="1d1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Change Case Development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oncerns regarding gathering enough support to pass a zonal change case out of the TNT group has lead Denton and Garland to withdraw their proposed Improved Zonal Change Case.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here is a continuing proposal for a Northeast Change Case.  At the upcoming March 2 CBCG meeting, a representative of the New England ISO will discuss issues associated with the use of Northeast markets software in ERCOT.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87B5-F0C3-45BB-BD84-96E2CB0972C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4c65"/>
            </a:gs>
            <a:gs pos="100000">
              <a:srgbClr val="1d1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NEXT MEETING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The next CBCG meeting is scheduled for  March 2.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Agenda Items: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nounce selected consult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view model assumptions in RFP for handing over to consult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cuss coordination between CBCG and consult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cussion with New England ISO representative on nodal softw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F004-B975-43B8-9B6F-1231F071179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2T19:22:28Z</dcterms:created>
  <dc:creator>Laura </dc:creator>
  <dc:description/>
  <dc:language>en-US</dc:language>
  <cp:lastModifiedBy>TNT-101303</cp:lastModifiedBy>
  <dcterms:modified xsi:type="dcterms:W3CDTF">2004-02-17T22:05:16Z</dcterms:modified>
  <cp:revision>6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927128048</vt:r8>
  </property>
  <property fmtid="{D5CDD505-2E9C-101B-9397-08002B2CF9AE}" pid="3" name="_AuthorEmail">
    <vt:lpwstr>hkeith@rjcovington.com</vt:lpwstr>
  </property>
  <property fmtid="{D5CDD505-2E9C-101B-9397-08002B2CF9AE}" pid="4" name="_AuthorEmailDisplayName">
    <vt:lpwstr>Heather Keith</vt:lpwstr>
  </property>
  <property fmtid="{D5CDD505-2E9C-101B-9397-08002B2CF9AE}" pid="5" name="_EmailSubject">
    <vt:lpwstr>Accomplishments </vt:lpwstr>
  </property>
  <property fmtid="{D5CDD505-2E9C-101B-9397-08002B2CF9AE}" pid="6" name="_PreviousAdHocReviewCycleID">
    <vt:r8>1877428915</vt:r8>
  </property>
  <property fmtid="{D5CDD505-2E9C-101B-9397-08002B2CF9AE}" pid="7" name="_ReviewingToolsShownOnce">
    <vt:lpwstr/>
  </property>
</Properties>
</file>