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DC7-363C-4C9A-ACC1-3DDE8BB4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5BD-903A-447B-A9DC-7612D8A1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FBD-A337-476C-9713-00BBDE48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B3A-563E-4363-ABCC-0A592173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380-FE27-4C9C-9898-5EC1B6BE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EE7-686F-4A6B-ACC9-D2397AE6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3CA-B9B1-4B5A-944C-8F31FD02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AEF-2770-42BA-98CB-9879925E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83E-FD8B-48DA-BFF3-091C21A4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7B3-2257-4EC9-AF5E-4BB66721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1AE-4CFF-4951-9373-2461F6D6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049-E74D-46C7-8810-4B1A34B5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9DAB-B437-4DEC-8624-F86AAEBC49C2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D01C-5EA2-43D6-AADA-824B6A9E452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Market Operation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oel Micke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4, 2003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Jan. 2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Impact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Meeti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cussed Network Security Analysis white paper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cussed Fidelity Requirements to Transmission Modeling white pap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720-F0AB-4700-9296-AE815023EC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ext Meeting – Feb.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Impact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cussion on what Market Operations items still need to be decided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cussion on Real-time Operation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cussion on Outage Plann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inue discussion on RUC bidding, Make Whole Payment and Cost Assign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cussion on A/S Oblig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666-666A-46EB-8261-4767A707DA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Future Meeting Dat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.18 – TNT Generation Session with focus on Operations issu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. 23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3 – TNT General Session ** Final Vote on    all Market Operations Issu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52E-185A-4637-99E9-8E503C1A35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 New Way to Speed Up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 volunteer will draft a white paper to a specific topic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 the white paper to the concept group for com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volunteer will collect the com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volunteer will put together a new white paper, including all the comments that can be agreed on, as well as all the comments that cannot be agreed each other as different op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036-7341-4C3D-996F-DDBCB13377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 New Way to Speed Up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(cont.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white paper will be discussed at the concept group meeting.  The concept group will mainly discuss the options and reach agre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white paper will be voted at the TNT general meet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7FB-B6B1-4671-BBDE-3CE5328A88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Laura </dc:creator>
  <dc:description/>
  <dc:language>en-US</dc:language>
  <cp:lastModifiedBy>TNT-101303</cp:lastModifiedBy>
  <dcterms:modified xsi:type="dcterms:W3CDTF">2004-02-04T15:13:16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4817525</vt:r8>
  </property>
  <property fmtid="{D5CDD505-2E9C-101B-9397-08002B2CF9AE}" pid="3" name="_AuthorEmail">
    <vt:lpwstr>jmickey@ercot.com</vt:lpwstr>
  </property>
  <property fmtid="{D5CDD505-2E9C-101B-9397-08002B2CF9AE}" pid="4" name="_AuthorEmailDisplayName">
    <vt:lpwstr>Mickey, Joel</vt:lpwstr>
  </property>
  <property fmtid="{D5CDD505-2E9C-101B-9397-08002B2CF9AE}" pid="5" name="_EmailSubject">
    <vt:lpwstr>MO Concept Group Report to TNT 02042004.ppt</vt:lpwstr>
  </property>
  <property fmtid="{D5CDD505-2E9C-101B-9397-08002B2CF9AE}" pid="6" name="_ReviewingToolsShownOnce">
    <vt:lpwstr/>
  </property>
</Properties>
</file>