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8D95-78A1-4AB2-AFFE-3A1113BD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to get a concept document to take to TNT on 2/4 for vo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to get a concept document to take to TNT on 2/4 for vo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ct on PC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B2B-9B00-43CA-8AE9-DDC3A49D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B43-6647-4543-A316-93010892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99F-F824-4214-9DBE-9A1F8AA2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FE4-2EC5-4E03-A3F6-2112A73E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1640" y="304920"/>
            <a:ext cx="3886200" cy="162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99D-85FF-4521-8F68-A110F47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46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46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E56-884D-48BE-A8DB-E9D45329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184-54D0-4D3B-B3B1-8D3A13F7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5F3-F1B1-4A13-B822-F09716C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1640" y="304920"/>
            <a:ext cx="3886200" cy="162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652-E3A9-4708-A8FC-C797B41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C0B-B650-4EB2-B5B5-F592018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967-F51C-46C3-B8A0-F9DEFE7E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D59-0868-44D4-9EA7-82A7B8E5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2/4/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3095-BF67-46CB-ABC2-E0BC74B51EC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1932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ngestion Management Concept Group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n Jones/Marguerite Wagn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4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933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pecific Items for Considerati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ems for which general consensus was not reached or for which additional comments have been receive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gates in Initial A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R 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R Ownership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R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R Sett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D6F-DE55-4445-BD45-C2030AA268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7086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ut Over to CMCG Concept Docu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aft CRR Comprehensive Docu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Vot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FA8-036D-4827-8429-4A6EA3CC98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238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Upcoming Action Items for CMCG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MCG to meet on February 9 &amp; 20 to discus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ng the results of the 2/4 TNT meeting into conceptua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ing punch lis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 of DAM on CRR issu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 of source sink bids/offers for CRR auction where source/sink consists of more than one node (e.g., load z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d limits (# of bids) to ensure technical feasibility of CRR auc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ling Issu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b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items to be addressed by CMC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CMCG as conceptual design transitions to Protoco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169-7DAC-4ACD-9183-2AFBD59E8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3920" y="28195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HANKS for Your Participation!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resentation Outlin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latest CMCG meeting activit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Contents of Load Zone Do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ee up Load Zone Do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Contents of CRR Doc &amp; Straw Votes from 1/26 CMCG Mee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ee up CRR Do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Remaining CMCG Action Ite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BC7-D477-4B90-BCC8-B6D41B0D3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1/26/04 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oad Zone Paper (with NOIE Zones) Discuss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R Concept Document Review, discussion &amp; modif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w Votes on Technical Issues where general consensus was reach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/Monthly Auction Amounts—came to agreement on percentage of capacity auctioned by duration of instr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ily CRR Auction—not explicitly defined or rul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er PTP Obligations (subject to credit requirements TB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w Votes on Technical Issues where resolution is still need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R Deration Alternativ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R Ownership Limi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gates in Initial CRR Auction? (Consensus on designing the ERCOT systems to accommodate the future offering of flowg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Outstanding Issu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RRs Settle—Shadow Price or Difference of LMP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144-E572-42C5-A361-FC81CB900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467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Load Zone Concept Document Overview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fines Competitive Zones as 2003 CSC Zon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imeline for Zone Changes—3 years with Board Approv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w Bus addition--assigned to the TNM Load Zone with the closest matching Zonal LMP to the new bus LMP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fines Criteria for NOIE Zon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ault” NOIE Zon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ustin, LCRA, C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active zonal opt in requirement for other NOIEs by June 1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ged into appropriate TNM Load Zone upon opt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EC1-DC97-4B30-9A84-879B8ABAC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ut Over to Load Zone Docu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aft Load Zone Docu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Vot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F8C-B3C3-4CC0-84CD-C132EB17F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RR Concept Paper Overview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R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R Types, Auction Amounts an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R A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assigned CR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unding of CRRs in the Event of 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et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088-A9D1-4852-B3C3-C9A6F5EC5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Straw Vote:  Flowgates in Initial Auction?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sensus:  ERCOT should design its systems to accommodate the future offering of flowgate right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raw vote results from 1/2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ould ERCOT Offer Flowgate rights in the initial CRR auction? (This question does not preclude the potential use of flowgate type products for wind.)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s of vote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es—support flowgates generally: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—don’t sell flowgates initially: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Opinion: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580-CD27-4086-B271-950AA01EC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238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Straw Vote:  Deration Alternativ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R Deration Alternativ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Deration, fully fund all CRRs and Uplift Costs to QSEs on a load ratio share basi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rate CRR holders on a pro-rata share of CRR ownership basis.  (Includes the idea of surpluses being held in a balancing account to balance out over a calendar period.)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rate CRR holders on an actual impact based on SF of outaged elements to CRRs—PUCT/Dr. Oren Propos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BE1-858E-471D-AFE1-65E0D4AB7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238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traw Vote:  Ownership Limi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wnership Limits: What ownership limits, if any, should be established for CRR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ownership limit—but increased market monitoring on entities which own over a certain limit on competitive constraint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% on each directional network ele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% on each directional “competitive” network elemen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393-C6D4-4461-B24B-22AA08620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Marguerite Wagner</dc:creator>
  <dc:description/>
  <dc:language>en-US</dc:language>
  <cp:lastModifiedBy>Marguerite Wagner</cp:lastModifiedBy>
  <dcterms:modified xsi:type="dcterms:W3CDTF">2004-02-03T21:34:10Z</dcterms:modified>
  <cp:revision>99</cp:revision>
  <dc:subject/>
  <dc:title>CMG Presentation 0923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73675862</vt:r8>
  </property>
  <property fmtid="{D5CDD505-2E9C-101B-9397-08002B2CF9AE}" pid="3" name="_AuthorEmail">
    <vt:lpwstr>mwagner@ercot.com</vt:lpwstr>
  </property>
  <property fmtid="{D5CDD505-2E9C-101B-9397-08002B2CF9AE}" pid="4" name="_AuthorEmailDisplayName">
    <vt:lpwstr>Wagner, Marguerite</vt:lpwstr>
  </property>
  <property fmtid="{D5CDD505-2E9C-101B-9397-08002B2CF9AE}" pid="5" name="_EmailSubject">
    <vt:lpwstr>punchy from lists</vt:lpwstr>
  </property>
</Properties>
</file>