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783-782F-418D-AFBE-564342C1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DF5-46D4-4877-A554-35B358F6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7F2-DA42-4EA8-B3A0-14C31776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8EC-DF4E-4246-8C83-62C8753E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646-293A-44CA-B21F-FAEE67BB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845-FCDC-4052-ACC3-AE82AEB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F8A-F965-4411-9C40-481B1CFE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B33-FE4F-41D1-A3E7-1AB4AED4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2F7-860C-48AD-BFF8-C4290B56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3EE-CD61-46ED-B2A6-0946CD8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60C-E290-41FA-B237-899C5312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F8C-B0CC-485D-8EAA-167143EF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E3B-97CD-436E-AE97-2FF3714ACA5E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7837-0244-478A-8317-C7DBF4C1BB2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st-Benefit 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170080"/>
                <a:tab algn="l" pos="382284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ick Covington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kki Gates Cuddy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2170080"/>
                <a:tab algn="l" pos="382284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4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752480" y="0"/>
          <a:ext cx="72392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723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F5B-7C96-4766-8C89-049079A7D1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RFP Selection Schedul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9-10 – Short listed companies make presentations to Selection Committe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11 – Selection Committee decides on preferred propos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13 – Discuss proposals and recommendation with CBC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17 - Take recommendation to ERCOT Board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EA1-6AFF-4039-A67D-7E0E9A2612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99880"/>
            <a:ext cx="6553080" cy="107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 ?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9A8-A28B-47D3-9C09-E476522324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BCG met on January 30 for ½ day, followed by a meeting of the CBCG Selection Committe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t the morning meeting, we discussed two additional change case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Zonal Change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Case based on PJM (brief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E7B-6129-42B6-9D22-42E34487FE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FP informed bidders to be prepared to produce a minimum of four change cas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oncept of evaluating an Improved Zonal Change Case as part of the Cost Benefit Study is supported by PUC staff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may need to be a good cause exception to the Rule for the Commission to implement, if so decided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AAE-5B54-4296-8C44-FE5D8606D5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Improved Zonal Model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CB study’s only current change case compares a new nodal market design (NCC) to the Base Case (current market design adjusted to include protocol changes through March 31st, 2004)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improved zonal market design (IZCC) is a variation on the Base Case that incorporates a set of forward looking assumption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IZCC will include many of the “Improved” market features being incorporated into the NCC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fference is that the IZCC is premised on making improvements to the current zonal market design rather than implementing a LMP market design in order to achieve those same featur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EB0-866C-4D07-837C-DACA363BB1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Reasons for IZCC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CB study Consultant provide estimate of incremental costs between IZCC and N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ZCC will insure a fair CB analysis which considers viable alternat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Commissioners the information they need to insure Texas and ERCOT are making the best business decision for electric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mental cost of running IZCC is small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212-CBAE-4E21-93F1-F778E5D1C6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Improved Zonal Change Cas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Improved Zonal market design should includ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 specific bi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unit comm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strained economic dis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 of congestion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 day-ahead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B18-BADD-4D57-9704-2F6736C459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Other Market Chang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stable zones (2003 or 2004?), with a three year notice to change z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transmission planning and the PUC will take on an expanded role to plan for relief of congestion, as well as addressing reliability issu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Interconnect studies will consider economic as well as reliability issues associated with interconnection requ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ex-ante market mitigation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market information to market particip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826-F712-4C25-842A-27E612E929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hange Case Developme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tails of the IZCC will be further developed by a subgroup and then presented to the Market Operations Concept Group for discussion if needed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esar Seymour will discuss a PJM Change Case Proposal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933-CD6B-4554-9B17-6345753E58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election Committe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Selection Committee meeting included discussion of selection criteria and weighting factor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evaluation worksheet was included in the RFP, but had equal weighting factors for illustrative purpos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ighting factors decided upon by the Committee are as follow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328-E70C-4577-A329-598D13C38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TNT-101303</cp:lastModifiedBy>
  <dcterms:modified xsi:type="dcterms:W3CDTF">2004-02-04T15:11:04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7128048</vt:r8>
  </property>
  <property fmtid="{D5CDD505-2E9C-101B-9397-08002B2CF9AE}" pid="3" name="_AuthorEmail">
    <vt:lpwstr>hkeith@rjcovington.com</vt:lpwstr>
  </property>
  <property fmtid="{D5CDD505-2E9C-101B-9397-08002B2CF9AE}" pid="4" name="_AuthorEmailDisplayName">
    <vt:lpwstr>Heather Keith</vt:lpwstr>
  </property>
  <property fmtid="{D5CDD505-2E9C-101B-9397-08002B2CF9AE}" pid="5" name="_EmailSubject">
    <vt:lpwstr>Accomplishments </vt:lpwstr>
  </property>
  <property fmtid="{D5CDD505-2E9C-101B-9397-08002B2CF9AE}" pid="6" name="_PreviousAdHocReviewCycleID">
    <vt:r8>1877428915</vt:r8>
  </property>
  <property fmtid="{D5CDD505-2E9C-101B-9397-08002B2CF9AE}" pid="7" name="_ReviewingToolsShownOnce">
    <vt:lpwstr/>
  </property>
</Properties>
</file>