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FC9-2631-4C19-A353-9E12D622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318-A626-4932-BD3B-8D458926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5F4-3461-487C-BD9D-58A2E27A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4F8-6C5C-4BB6-B259-812B4412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DAA-DB7D-462C-8EEA-A590D0B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70A-0337-49BA-8ADC-A85DE41C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39B-A20F-46D2-B560-030821C6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BA7-2A29-4949-8287-C282325D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199-DDBB-4BBB-B67A-575E5B0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416-E428-4EC6-9BBE-84684E78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7E4-FBB8-4A68-A2BE-34CF332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170-91FD-42ED-9826-551F45A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D8A-726C-4ED1-8D72-38772EDF4B3A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6F8-5F87-40D7-91DF-B3D2DF8914D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Market Mitigation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im Galv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4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ast Meeting Dat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cept Group has made progress on the Market Mitigation white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sensus on the purpose of the white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gh level discussions on what constitutes  competitive vs. non-competitive constrai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loor prices are an issue for some Market Participants and the PUCT Staf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5F6-4CE2-44F6-A0DA-4D55F89A6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ite Paper Draf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ulemaking for Market Mitigation will kickoff with the MMCG meeting on February 26, to be held at the PU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D8E-4D6C-433E-8CBA-906D0DE9DE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opics for Upcoming Meetin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etitive vs. Non-competitive criter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ice Floo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finition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ower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r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312-264D-451D-AC48-16FCEDE3DB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eting Da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12, 2004- Working meeting with intent to cover the Competitive Constraints, Floor Prices and remaining comments on white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26, 2004- Meeting at PUCT to kickoff Market Mitigation rulemaking (morning) and working session (afternoon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5EA-9C72-4716-A2B7-216F413E8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ne at this 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2EE-5B82-4D96-88A7-8BFEF2AC24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TNT-101303</cp:lastModifiedBy>
  <dcterms:modified xsi:type="dcterms:W3CDTF">2004-02-04T14:53:07Z</dcterms:modified>
  <cp:revision>50</cp:revision>
  <dc:subject/>
  <dc:title>PowerPoint Presentation</dc:title>
</cp:coreProperties>
</file>