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C26-9A45-420D-9EC2-23244519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9EF-5F94-4E34-8013-4B8847C7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513-BE68-4DB0-99D6-43077FCB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FE42-A339-486C-895A-EE6BDBCF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923F-3E9B-4931-B982-9526D513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B2A7-2004-4DBA-B4B0-44DFF42C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1306-4C80-4702-B376-1201A046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8B4-86E4-42D8-BE0D-D3F556A9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57F9-5F0E-4BB5-A5FF-7E6A7CC2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A9D-5346-4DF9-9CDC-914F7E44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548E-B566-4153-A237-6DD6C6EB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6E8-FBC0-4C5B-B4AE-7D026726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7485-4BE8-4B73-A6C5-BF3518002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066680"/>
            <a:ext cx="79250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Alternative Change Case Model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Importing a Successful “Off-the-Shelf” Nodal Model for Evaluation in  the C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58720" y="546588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February 4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32767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Presented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TNT General S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Substantive Rule 25.501 say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ERCOT must modify its current structure to implement direct assignment of local con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Resource-specific bidding for energy and ancillary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Voluntary Day-Ahead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Nodal prices for Resources, Zonal for Lo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Times New Roman"/>
              </a:rPr>
              <a:t>An unbiased, in depth cost-benefit study is to be performed by an Independent Third-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Scope of project to be conside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Cost/Benefit of Market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Computer System change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Computer Software*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Personnel addition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raining of personnel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Facilities changes for additional personnel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Overhead associated with growth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56386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*Factors that can be expensive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ut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minimized by investing in an efficient proven system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Features  of the New Nodal Market Design that must be addressed by  the Change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Day Ahead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Reliability Unit Commitment (RUC) with Security Constrained Economic Dispatch (SCED) and Security Constrained Unit Commitment (SCU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Real-Tim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Congestion Revenue Rights (CRRs) with Pre-assigned CRRs (PCRR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Congestion Z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Market Mi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095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eatures that already come STANDARD in the “Off-the-Shelf”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Why does an “Off-the-Shelf” Model makes sense for ERCOT?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It’s proven …. It works well in other markets (New York, New England, PJ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Will save TIME … time that can be used to enhance other features of the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imple to use, Friendly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Existing Automated Interface for MP Applic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Functions can easily be turned On / 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an be used as the platform for any LMP Model we choose ~ Modular, other features can be added /deleted as the Market develop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pacts of Choosing an Off-The-Shelf System to Evaluate in Change Case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Keep costs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Primarily Related to Computer System/Software changes and Consultant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Secondary Benefits related to Training of Personnel, MP Familiarity, Sharing of information and technology between ISOs, Ease of use for M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Reduce Implementation Ti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ERCOT’s personnel could dedicate more “learning time” and spend less time “creating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Issues that must be bridg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Regulatory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Transmission 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Environment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5400" y="4343400"/>
            <a:ext cx="9048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Software is fairly flexible and can be adapted to accommo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multiple scenarios.  It is not anticipated that Off-the-Shelf Software would be any more difficult to adapt than new sof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Potential Benefits Should Be Evalua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Experience of Other Regions Should not be Igno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Absent a Proper Evaluation, Savings to ERCOT Customers are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otentially, Significant Savings Related to Systems Design, Implementation and Staff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Need for TNT to Consider Known Viable Beneficial  Alternativ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mpelling Reasons for “Off-the-Shelf” use in the Change C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BA Consultant will use a “top-down” approach in quantifying Implementation Costs (will be evaluating costs experienced by RTOs/ISOs in existence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FP for CBA is explicit in allowing for “…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up to four change case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…”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ch of conceptual work we’re using to define our market is being “borrowed” from other RTOs/IS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hy choose fiction when reality is avail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15:55:41Z</dcterms:created>
  <dc:creator>Zehani</dc:creator>
  <dc:description/>
  <dc:language>en-US</dc:language>
  <cp:lastModifiedBy>TNT-101303</cp:lastModifiedBy>
  <dcterms:modified xsi:type="dcterms:W3CDTF">2004-02-04T14:32:32Z</dcterms:modified>
  <cp:revision>19</cp:revision>
  <dc:subject/>
  <dc:title>PowerPoint Presentation</dc:title>
</cp:coreProperties>
</file>