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B80-C635-41FE-A774-9BC5E526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689-1966-4A52-995F-66BD2074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CA0-50AC-4462-BD8D-F062F49D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271-1B04-4DE1-B98B-6B8312EB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78E9-9A48-468B-9F59-796A6B07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72AD-0925-4F85-9165-CDE2F3A0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A02A-6E54-423D-AF0F-5BCEE48E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64E4-6EC4-4D1C-B1DD-16181E66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47DA-1882-4FA4-9DCD-EF31321B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1F07-4120-4F3F-B963-27486F49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8A50-967C-4160-9F12-FB743048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1C6E-B3FB-4A48-84F3-775634C9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9A75-D8BD-4BA7-87D8-64F01FB8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2C3E-B97E-44D4-B54C-4916B6C8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2288-FE6A-4DE9-8972-0D9ACD45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09D7-7202-4561-885F-F77EC715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2DBD-A69C-42E4-8B9F-6FE396B1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A99-2A37-4626-BFF9-16795E20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9DC-4BC8-4A1D-8C5B-E4A6F218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DE5A-31BC-49D6-8FE6-35640918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E4C-FA1F-4C31-9984-E94515E2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2B3-CB04-4592-9E2D-0C5DFA92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84E-7927-4F55-BADD-D8D7256E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205-A42E-4522-81A1-843D47EC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B01E-9EEA-419C-8C17-95CE4F809B8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7D88-4779-4331-AF36-63A85EBAE73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omprehensive Proposal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ing a Day-Ahead Market in the Context of a Total Market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NT General S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bruary 4, 200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reas that have been Deferr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M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certainty of Uplift Costs in propos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ed as a TNT Work Area in the Market Operations or Market Mitigation Concept Gro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MR TF is addressing plant retirements and potential Auction/RFP process for development of RMR Exit Strateg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commended Next Step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inue Development of Comprehensive Proposal within the TNT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 detail of areas that have conceptual frameworks for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 conceptual frameworks and detail of the other areas that need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NT Vote at Near Future Meeting (Feb 18?) on above Recommend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urpose and Genesis of the Comprehensive Proposal (CP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ions with Many Stakeholders on the Impasse on DAM Mod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View of Mar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cessary to Understand &amp; Assess All Major Market Elements and their Integration for Stakeholders to get Comfortable with any Single El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velopment of Comprehensive  Proposal is still under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s Today: Provide a Status Report and a Recommendation on How to Integrate the CP into the TNT Pro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posal Compon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as that have Significant Agreement and  Conceptual Frameworks for Re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Areas Without Agreement on Conceptual Framewor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Areas are Considered “Part &amp; Parcel” of the Comprehensive Propos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Areas that have Significant Agreement and  Conceptual Frameworks for Resolut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hanced HDAM (E-HDAM) with  Alternative for Day-Ahead or Real-Time Settlement of CR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et Monitor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ion of an Independent Market Monitor (IM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et Mitig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formance of all market participant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Transmission Planning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ment of Wind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ket Monitoring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rket monitoring function, rules and standards need to be developed and implemented before the new market goes l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tigation measures is a primary concern but it is only one aspect of the overall market monitoring f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overnance (Creation of an IMM within the ERCOT ISO structure with oversight by the PUCT MO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ta &amp; Inform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ole and Authorities of the Market Moni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orts and Recommend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ormation Gath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rket Power Mitigation Measures (the current charge and scope of the MMCG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rket Power Abuses and Violations of Market Ru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abi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put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ket Monitor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 to integrate PUCT and TNT work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sibly expand TNT 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P addresse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ion of on Independent Market Monit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le of IMM to monitor performance of all market particip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RC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SE/Resour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DS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et Mitig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ew Transmission Planning Proces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 for economic planning vs. reliability-based pla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ed scope of pla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Balance diverse market needs and desire to limit customer exposure to congestion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Limit opportunities for the exercise of market power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Encourage the development of demand side program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Encourage the development of distributed resource technologie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rovide appropriate incentives for transmission owners to invest in infrastructure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rovide appropriate incentives for generators to invest in resource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ew Transmission Planning Proces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ly Planned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line transmission upgrades (reliabil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onomically-based transmission upgr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et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ategically sited generation pro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hant trans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e load management/demand side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ributed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ther Areas Without Agreement on Conceptual Frame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itional Plan for moving from a zonal to nodal design to more appropriately handle OOMC/O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tive discussion and proposals underway to modify January 8 propo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 Adequacy (R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n 8 plan deferred issue to PUCT rulema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 proposal was proposed and discussed but consensus has not been achieved to d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20:04:52Z</dcterms:created>
  <dc:creator>Cenadmin</dc:creator>
  <dc:description/>
  <dc:language>en-US</dc:language>
  <cp:lastModifiedBy>TNT-101303</cp:lastModifiedBy>
  <dcterms:modified xsi:type="dcterms:W3CDTF">2004-02-04T15:31:13Z</dcterms:modified>
  <cp:revision>70</cp:revision>
  <dc:subject/>
  <dc:title>Slide 1</dc:title>
</cp:coreProperties>
</file>