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F9C-5999-49FB-B704-DA67340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1CB-DB7C-4B5D-AFE5-2E16DCF2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6A3-36C4-4E88-972D-91C7E57B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539-A408-497C-95C1-B77B5850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B48-F8E6-4077-BF4A-F713125F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8EB-173A-4740-A007-2099794E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49D-6BD4-4949-B944-377E53C0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26A-DDE9-435A-8EA1-AB4DCAAF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C48-F926-405E-89D2-8F6A6F36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703-3626-4B5F-A5F2-41B6034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978-B6FB-4B4B-937A-0E2B601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17B-F30A-4ECB-AAEA-F5B9A25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079-57CA-474C-B9A2-C2C2DDCD8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Primary Frequ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5562720"/>
            <a:ext cx="373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 L. Nieme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13-207-50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3840" y="81000"/>
            <a:ext cx="8896320" cy="6696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Primar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380880"/>
            <a:ext cx="9144000" cy="6067440"/>
            <a:chOff x="0" y="380880"/>
            <a:chExt cx="9144000" cy="606744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9144000" cy="60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394812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 7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41 MW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42920" y="123840"/>
            <a:ext cx="8858160" cy="6610320"/>
            <a:chOff x="142920" y="123840"/>
            <a:chExt cx="8858160" cy="66103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42920" y="123840"/>
              <a:ext cx="8858160" cy="66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447920" y="426708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 31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 MW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14480" y="90360"/>
            <a:ext cx="8915400" cy="6677280"/>
            <a:chOff x="114480" y="90360"/>
            <a:chExt cx="8915400" cy="667728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14480" y="90360"/>
              <a:ext cx="8915400" cy="667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523880" y="4038480"/>
              <a:ext cx="381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91440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 MW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952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 MW LaaR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23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228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9 MW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41911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ember 26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8240" y="85680"/>
            <a:ext cx="8867520" cy="668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3880" y="1752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5 MW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114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ember 29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600" y="109440"/>
            <a:ext cx="9010800" cy="6639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752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1 MW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41148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ember 30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4360" y="0"/>
            <a:ext cx="8315280" cy="686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004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0 MW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51055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5 MW Laa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nuary 4,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4267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360" y="38160"/>
            <a:ext cx="8963280" cy="678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1440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8 MW unit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76720" y="28191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733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.06 Hz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7672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3434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3.3 MW/0.1Hz Primary and Load Response, 295.0 MW/0.1Hz from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nuary 22,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838080"/>
          <a:ext cx="9144000" cy="52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ive Reserve Units On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Frequency Control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, one third of ERCOT’s Primary Control is supplied by Hydro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units respond only to large (negative) Hz dev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Hz Control to Frequency deviations less than +/- 0.1Hz averages 300 MW/0.1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Primary Frequency Response is not maintained for entire event.  (Proportionally to Hz dev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Response droop has dec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bruary 28,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1,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tember 26,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486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ember 4,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953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8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68520"/>
            <a:ext cx="7619760" cy="5289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ember 17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4191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29600" cy="4648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ember 16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572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838160"/>
            <a:ext cx="8353440" cy="5019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nuary 21,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RC and ERCOT Operating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ve governor in service and free to 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intentional governor dead band is +/-0.036 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requency Control is vital for Interconnect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52320" y="666720"/>
          <a:ext cx="783936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666720"/>
                    <a:ext cx="78393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3 Interconnects at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20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71440" y="257040"/>
          <a:ext cx="8601120" cy="634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57040"/>
                    <a:ext cx="860112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5% Droop unit in each Interconn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61960" y="257040"/>
          <a:ext cx="8020080" cy="634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57040"/>
                    <a:ext cx="802008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stern Interconn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19240" y="252360"/>
          <a:ext cx="8705520" cy="63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252360"/>
                    <a:ext cx="87055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n Interconn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62000" y="166680"/>
          <a:ext cx="882000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6680"/>
                    <a:ext cx="88200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91440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94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0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6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Interconn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640" y="176040"/>
            <a:ext cx="7848720" cy="650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With Primar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3840" y="104760"/>
            <a:ext cx="8896320" cy="6648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Without Primar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sniemeyer</cp:lastModifiedBy>
  <dcterms:modified xsi:type="dcterms:W3CDTF">2004-01-23T04:13:20Z</dcterms:modified>
  <cp:revision>5</cp:revision>
  <dc:subject/>
  <dc:title>PowerPoint Presentation</dc:title>
</cp:coreProperties>
</file>