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D7F-9CBF-4CCE-90C7-B0C70D10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12B-21E7-4E2F-9D4A-2BEE50E9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06D-913E-4A18-9B63-5485514C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84D-6D4C-40E5-BEE5-283927A8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80E-07D1-4E85-8109-82D66F43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434-55D2-4007-A5CA-8DA192BC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81B-5469-4F55-B82C-2902E9FD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962-6928-4C73-9E45-9951E606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B97-DB54-4BCF-B86B-9209B7D4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D41-39F8-4369-82BD-2A8A44AE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260-289A-4005-A93D-322243E3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5BA-17B9-4550-826B-ECD5857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0147-3493-405D-8EBD-11F108031A8A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E04-A48D-4081-8159-2CCE69376E3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2895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2448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ost-Benefit  Concept Group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457200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170080"/>
                <a:tab algn="l" pos="382284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ick Covington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kki Gates Cuddy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2170080"/>
                <a:tab algn="l" pos="382284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anuary 20, 200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complishmen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RFP was released on Thursday January 8th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nt RFP to 34 parties and posted it on the TNT web site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rties were given until January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o submit written questions to be responded to at the Pre-Bid Conferenc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ceived 13 notices of Intent to Bi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6AA-6292-41A2-83A6-CDB70C0B7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ccomplishmen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CBCG held a Pre-Bid Conference on January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at the Airport Hilton Hotel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ttendance at the Pre-Bid Conference was 28 attending in person and approximately 6 call in line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ight potential bidder firms were represented in person at the conference by one or more individual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e responded to 65 pre-submitted questions from bidders as well as additional questions brought up during the discussion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F26-649D-4F26-A46B-9CCE5D9DD8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ext Step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posals are due January 2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CBCG will meet the morning of January 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o discuss change cases to be modeled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nt is to discuss the proposed changes cases and the process for review and approval of these cases through the Market Operations Concept Group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8D4-AB33-4A54-8B10-9485EE11D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ext Steps - Selection Committe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afternoon of January 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ill be meeting of the RFP Selection Committe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Selection Committee will discuss the proposals  received and selection criteria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Committee will select a short list on February 3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hort list bidders will be invited to make presentations to the Selection Committee on February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FCB-F752-4BC8-934C-9F084C1977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election of Consultan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Selection Committee will develop its recommendation by February 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th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to take to the CBCG meeting on February 13th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 is anticipated that a recommendation of the firm to conduct the study will be brought to the TNT General Session on February 18th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contract negotiation with the selected firm will be completed by March 3, at which time the actual study will begin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E8D-B885-42BF-8CB8-9FE654FA7D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299880"/>
            <a:ext cx="6553080" cy="107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ESTIONS ?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7BB-DADC-4E43-A091-394F614CB8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22:28Z</dcterms:created>
  <dc:creator>Laura </dc:creator>
  <dc:description/>
  <dc:language>en-US</dc:language>
  <cp:lastModifiedBy>Vikki Gates Cuddy</cp:lastModifiedBy>
  <dcterms:modified xsi:type="dcterms:W3CDTF">2004-01-18T21:08:30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27128048</vt:r8>
  </property>
  <property fmtid="{D5CDD505-2E9C-101B-9397-08002B2CF9AE}" pid="3" name="_AuthorEmail">
    <vt:lpwstr>hkeith@rjcovington.com</vt:lpwstr>
  </property>
  <property fmtid="{D5CDD505-2E9C-101B-9397-08002B2CF9AE}" pid="4" name="_AuthorEmailDisplayName">
    <vt:lpwstr>Heather Keith</vt:lpwstr>
  </property>
  <property fmtid="{D5CDD505-2E9C-101B-9397-08002B2CF9AE}" pid="5" name="_EmailSubject">
    <vt:lpwstr>Accomplishments </vt:lpwstr>
  </property>
  <property fmtid="{D5CDD505-2E9C-101B-9397-08002B2CF9AE}" pid="6" name="_PreviousAdHocReviewCycleID">
    <vt:r8>1877428915</vt:r8>
  </property>
  <property fmtid="{D5CDD505-2E9C-101B-9397-08002B2CF9AE}" pid="7" name="_ReviewingToolsShownOnce">
    <vt:lpwstr/>
  </property>
</Properties>
</file>