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C56AE-D289-43DF-BAD5-7CD41A01B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02DF9-ADC4-4AD5-AB6B-0D14A6432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7D383-09EC-4E56-8BA2-6F32FEE1F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DEBFD-2251-4C95-8D90-B43B86CC8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A2919-0A4A-4344-B405-AFE35E672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AAE7D-C43F-47B0-A305-C743CE476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AC4C2-0350-4B67-8D46-335A4A96F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D4E47-6C78-456B-8F10-C5A08D180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05659-00C1-410A-97F3-780271971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E3B08-3514-4926-A616-AA6139F6D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6EC33-D0E0-4F69-AD68-8E40931E4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0A357-9F83-4C2F-AD51-15E2912B0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F641-5143-428B-967B-93FFAE7103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n Market Operations Issues</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ion fo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xas Nodal Team</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nuary 20, 2004</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51895D6-149D-47B6-A740-F5A4C8BE21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t>
            </a:r>
            <a:r>
              <a:rPr b="0" lang="en-US" sz="4400" spc="-1" strike="noStrike">
                <a:solidFill>
                  <a:srgbClr val="ffff00"/>
                </a:solidFill>
                <a:latin typeface="Times New Roman"/>
              </a:rPr>
              <a:t>Make Whole” Provision</a:t>
            </a:r>
            <a:endParaRPr b="0" lang="en-US" sz="4400" spc="-1" strike="noStrike">
              <a:solidFill>
                <a:srgbClr val="ffff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a generator (resource) committed by ERCOT to be online for the RUC, the following will apply:</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COT will honor each QSE’s start-up status, ramp rates and minimum run times established for specified off-line status of the unit (cold, warm, ho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COT will notify the QSE when and for how long the unit is to be online for RUC purpos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E168C1A-5E02-4EF4-B769-E7A03187F6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t>
            </a:r>
            <a:r>
              <a:rPr b="0" lang="en-US" sz="4400" spc="-1" strike="noStrike">
                <a:solidFill>
                  <a:srgbClr val="ffff00"/>
                </a:solidFill>
                <a:latin typeface="Times New Roman"/>
              </a:rPr>
              <a:t>Make Whole” Provision</a:t>
            </a: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COT will calculate for a 24-hour basis the difference between</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ctual energy revenue received by the unit based on the LMPs and the unit’s operating output; and</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structed energy output of the unit from the commitment process times the bid of the unit at that output</a:t>
            </a:r>
            <a:endParaRPr b="0" lang="en-US" sz="2400" spc="-1" strike="noStrike">
              <a:solidFill>
                <a:srgbClr val="ffffff"/>
              </a:solidFill>
              <a:latin typeface="Times New Roman"/>
            </a:endParaRPr>
          </a:p>
          <a:p>
            <a:pPr lvl="3" marL="16002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energy output instructed by ERCOT will include any additional hours to equal the unit’s minimum runtime (additional hours only at minimum output)</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5266030-43CE-4761-AE99-EA60073E83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t>
            </a:r>
            <a:r>
              <a:rPr b="0" lang="en-US" sz="4400" spc="-1" strike="noStrike">
                <a:solidFill>
                  <a:srgbClr val="ffff00"/>
                </a:solidFill>
                <a:latin typeface="Times New Roman"/>
              </a:rPr>
              <a:t>Make Whole” Provision</a:t>
            </a:r>
            <a:endParaRPr b="0" lang="en-US" sz="4400" spc="-1" strike="noStrike">
              <a:solidFill>
                <a:srgbClr val="ffff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positive difference (Actual LMP $ &gt; Bid $) from the above will be used to offset the start-up and no load costs of the committed uni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tart-up and no load costs are fully offset, ERCOT does not owe the QSE a “make whole” paymen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tart-up and no load costs are not offset, ERCOT owes the QSE the difference for the 24-hour period</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C82A09D-DAEB-46D7-BCB5-20E4BEA24A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t>
            </a:r>
            <a:r>
              <a:rPr b="0" lang="en-US" sz="4400" spc="-1" strike="noStrike">
                <a:solidFill>
                  <a:srgbClr val="ffff00"/>
                </a:solidFill>
                <a:latin typeface="Times New Roman"/>
              </a:rPr>
              <a:t>Make Whole” Provision</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energy tracking for the 24-hour period results in a negative difference (Actual LMP $ &lt; Bid $), then ERCOT owes the QSE the start-up, no load and negative difference of energy recovery (Bid Energy $ - Actual Energy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minimum run requirement requires a unit to run into the next 24-hour period, then the tracking for the following day will account for any financial losses that ERCOT owes the QSE for the day before commitment</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68770EB-BA59-4ED8-A03A-23DE3D256C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t>
            </a:r>
            <a:r>
              <a:rPr b="0" lang="en-US" sz="4400" spc="-1" strike="noStrike">
                <a:solidFill>
                  <a:srgbClr val="ffff00"/>
                </a:solidFill>
                <a:latin typeface="Times New Roman"/>
              </a:rPr>
              <a:t>Make Whole” Provision</a:t>
            </a:r>
            <a:endParaRPr b="0" lang="en-US" sz="4400" spc="-1" strike="noStrike">
              <a:solidFill>
                <a:srgbClr val="ffff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art-up and no load bids are essentially recovery of estimated unit costs plus a small percentage to account for error</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bids should not be changeable for a 3-6 month period except for fuel price (index) adjustme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nergy bid curve submitted by the resource immediately prior to the RUC should be “locked” for the entire operating day except for an actual unit outage or unavailability</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BCC72D5-A1A5-4C11-9B67-401C3ADE38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t>
            </a:r>
            <a:r>
              <a:rPr b="0" lang="en-US" sz="4400" spc="-1" strike="noStrike">
                <a:solidFill>
                  <a:srgbClr val="ffff00"/>
                </a:solidFill>
                <a:latin typeface="Times New Roman"/>
              </a:rPr>
              <a:t>Make Whole” Provision</a:t>
            </a:r>
            <a:endParaRPr b="0" lang="en-US" sz="4400" spc="-1" strike="noStrike">
              <a:solidFill>
                <a:srgbClr val="ffff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unit must come online in the designated window to receive a “make whole” guarantee</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unit is on-line early, the “make whole” provision considers all the hours the unit is on-line</a:t>
            </a:r>
            <a:endParaRPr b="0" lang="en-US" sz="24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nergy bid curve used in the “make whole” will be the RUC bid curve which are the actual bids for competitive units or mitigated bids for units with local market power</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C3001E2-173D-4861-8550-D0B438F911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ssignment of RUC Charges</a:t>
            </a:r>
            <a:endParaRPr b="0" lang="en-US" sz="4400" spc="-1" strike="noStrike">
              <a:solidFill>
                <a:srgbClr val="ffff00"/>
              </a:solidFill>
              <a:latin typeface="Times New Roman"/>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D79567C-051B-4FA4-BC9E-344EC8D068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RUC Charge Assignment</a:t>
            </a: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RUC charges (startup, no load and minimum load not recovered through LMP) caused by system resource capacity insufficiency and/or transmission security violatio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al is to appropriately assign these charges in a manner that follows cost causation principles, thus providing market incentives that promote overall efficiency</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D8A9416-A41D-4CED-9063-5D7BFA9FF5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RUC Charge Assignment</a:t>
            </a:r>
            <a:endParaRPr b="0" lang="en-US" sz="4400" spc="-1" strike="noStrike">
              <a:solidFill>
                <a:srgbClr val="ffff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RCOT conducts two studies: one to solely determine system resource capacity sufficiency and the other to determine system resource capacity sufficiency with the solution of any transmission security violation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021CD7E-CAB9-4048-B2FB-5AF1373650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RUC Charge Assignment</a:t>
            </a:r>
            <a:endParaRPr b="0" lang="en-US" sz="4400" spc="-1" strike="noStrike">
              <a:solidFill>
                <a:srgbClr val="ffff00"/>
              </a:solidFill>
              <a:latin typeface="Times New Roman"/>
            </a:endParaRPr>
          </a:p>
        </p:txBody>
      </p:sp>
      <p:sp>
        <p:nvSpPr>
          <p:cNvPr id="78" name=""/>
          <p:cNvSpPr/>
          <p:nvPr/>
        </p:nvSpPr>
        <p:spPr>
          <a:xfrm>
            <a:off x="762120" y="2057400"/>
            <a:ext cx="769608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 resource sufficiency charges arise when the total capacity self-committed is insufficient to meet the ISO load forecast plus required reserves</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5BC5604D-6CE4-4D5F-95C8-4BB897BE4C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n Market Operations Issues</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C Price Compon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Make Whole” Provis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ignment of RUC Charg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lap with Market Mitigation</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86520C0-2F1F-432F-A001-4B1C365611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RUC Charge Assignment</a:t>
            </a:r>
            <a:endParaRPr b="0" lang="en-US" sz="4400" spc="-1" strike="noStrike">
              <a:solidFill>
                <a:srgbClr val="ffff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mission security charges arise from the ISO’s commitment of units not self-committed to solve transmission security violation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ifference between the System Resource Capacity Sufficiency and the System and Transmission Security Cases represents the increase in RUC charges due to transmission securit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ncrease must be assigned appropriately on a cost causation basis</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88A099D-0BA5-45FA-B9B0-424B18BF79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RUC Charge Assignment</a:t>
            </a:r>
            <a:endParaRPr b="0" lang="en-US" sz="4400" spc="-1" strike="noStrike">
              <a:solidFill>
                <a:srgbClr val="ffff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ratio based on the two cases determines the assignment of make whole payments to system sufficiency and to transmission securit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stem component will be assigned similar to to the current Replacement Reserve servic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ransmission security component will be assigned to the QSEs in the LSA that do not cover their load with resources capably serving load in the LSA</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4693072-0935-4F15-BA49-BB0E6FEEFF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RUC Charge Assignment</a:t>
            </a:r>
            <a:endParaRPr b="0" lang="en-US" sz="4400" spc="-1" strike="noStrike">
              <a:solidFill>
                <a:srgbClr val="ffff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mission security charges can be linked to local transmission constrain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COT determines Local Security Areas (LSA) annually using its load forecast and distribution to load buses (these may be subsets of Load Zon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resource is assigned to a LSA based on the units impact on local congestio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E7C99FB-F50A-4F7A-A65D-BFE17C7338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verlap with Market Mitigation</a:t>
            </a:r>
            <a:endParaRPr b="0" lang="en-US" sz="4400" spc="-1" strike="noStrike">
              <a:solidFill>
                <a:srgbClr val="ffff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BDC3EB1-2A0D-45AF-923A-4CB14192A5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verlap with Market Mitigation</a:t>
            </a:r>
            <a:endParaRPr b="0" lang="en-US" sz="4400" spc="-1" strike="noStrike">
              <a:solidFill>
                <a:srgbClr val="ffff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have proposed mitigation of energy bids to incent suppliers/QSEs to self-commit instead of allowing ERCOT to commit the resource through the RUC proces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etitive Unit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Self-Committed</a:t>
            </a:r>
            <a:r>
              <a:rPr b="0" lang="en-US" sz="2000" spc="-1" strike="noStrike">
                <a:solidFill>
                  <a:srgbClr val="ffffff"/>
                </a:solidFill>
                <a:latin typeface="Times New Roman"/>
              </a:rPr>
              <a:t>: Their energy bid curve, if self-committed, is limited only by the $1K bid cap</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ot Self-Committed</a:t>
            </a:r>
            <a:r>
              <a:rPr b="0" lang="en-US" sz="2000" spc="-1" strike="noStrike">
                <a:solidFill>
                  <a:srgbClr val="ffffff"/>
                </a:solidFill>
                <a:latin typeface="Times New Roman"/>
              </a:rPr>
              <a:t>: A proxy bid for energy such as OOME if there is no self-commitment</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A11DB12-ADC0-477B-A1DF-400E6F8043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verlap with Market Mitigation</a:t>
            </a:r>
            <a:endParaRPr b="0" lang="en-US" sz="4400" spc="-1" strike="noStrike">
              <a:solidFill>
                <a:srgbClr val="ffff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Competitive Units</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lf Committed</a:t>
            </a:r>
            <a:r>
              <a:rPr b="0" lang="en-US" sz="2400" spc="-1" strike="noStrike">
                <a:solidFill>
                  <a:srgbClr val="ffffff"/>
                </a:solidFill>
                <a:latin typeface="Times New Roman"/>
              </a:rPr>
              <a:t>: A proxy bid cap for energy such as a heat rate (15K-18K MMbtu/kwh) times a fuel index if they self-commit</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Not Self-Committed</a:t>
            </a:r>
            <a:r>
              <a:rPr b="0" lang="en-US" sz="2400" spc="-1" strike="noStrike">
                <a:solidFill>
                  <a:srgbClr val="ffffff"/>
                </a:solidFill>
                <a:latin typeface="Times New Roman"/>
              </a:rPr>
              <a:t>: A mitigated energy curve such as tested heat rate times a fuel index times 110% if ERCOT commits the resourc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0BE91EE-338E-4A59-B325-A06057D4B1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verlap with Market Mitigation</a:t>
            </a: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ents By Others On Proposal</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cing a competitive resource or QSE to self-commit when it believes there are better opportunities to buy from the market is counter to a competitive wholesale market</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ating an incentive for a non-competitive resource to self-commit instead of being committed in RUC may be an alternate solution to assigning congestion commitments for non-competitive constraints directly to those that caused them.</a:t>
            </a:r>
            <a:endParaRPr b="0" lang="en-US" sz="20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owever, the incentive must be sufficient to result in self-commitment and the level if a non-competitive unit is committed by RUC must allow a recovery of costs</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52E7F5AD-9DF5-446C-9602-388EE7BB5D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verlap with Market Mitigation</a:t>
            </a:r>
            <a:endParaRPr b="0" lang="en-US" sz="4400" spc="-1" strike="noStrike">
              <a:solidFill>
                <a:srgbClr val="ffff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should the start-up, no load, minimum run and minimum start times, etc. be allowed to chang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nthly</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arterly</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mi-Annually </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should energy bids be allowed to chang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day prior to RUC</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Hour</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th directions or only downward</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BE656DE-1764-4399-96D7-7147EAE78D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05E6B1-2EF2-41B1-85E8-29E79E936FE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C Price Components</a:t>
            </a:r>
            <a:endParaRPr b="0" lang="en-US" sz="4400" spc="-1" strike="noStrike">
              <a:solidFill>
                <a:srgbClr val="ffff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19AAF62-7AF6-4A26-BBAB-41E91EE861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C Price Components</a:t>
            </a:r>
            <a:endParaRPr b="0" lang="en-US" sz="4400" spc="-1" strike="noStrike">
              <a:solidFill>
                <a:srgbClr val="ffff00"/>
              </a:solidFill>
              <a:latin typeface="Times New Roman"/>
            </a:endParaRPr>
          </a:p>
        </p:txBody>
      </p:sp>
      <p:sp>
        <p:nvSpPr>
          <p:cNvPr id="4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C requires information on each generating unit to determine if it should be committed</a:t>
            </a:r>
            <a:endParaRPr b="0" lang="en-US" sz="28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price parameters</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ergy bids</a:t>
            </a:r>
            <a:endParaRPr b="0" lang="en-US" sz="2400" spc="-1" strike="noStrike">
              <a:solidFill>
                <a:srgbClr val="ffffff"/>
              </a:solidFill>
              <a:latin typeface="Times New Roman"/>
            </a:endParaRPr>
          </a:p>
          <a:p>
            <a:pPr marL="305280" indent="-3052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ollowing terms have been discussed as bidding components for the RUC: </a:t>
            </a:r>
            <a:endParaRPr b="0" lang="en-US" sz="28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 up prices</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load prices</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ergy bid curves </a:t>
            </a:r>
            <a:endParaRPr b="0" lang="en-US" sz="2400" spc="-1" strike="noStrike">
              <a:solidFill>
                <a:srgbClr val="ffffff"/>
              </a:solidFill>
              <a:latin typeface="Times New Roman"/>
            </a:endParaRPr>
          </a:p>
          <a:p>
            <a:pPr marL="305280" indent="-3052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ly these terms are not defined in the ERCOT Protocol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79E3875-9601-43CB-982A-A794F88C68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C Price Components</a:t>
            </a:r>
            <a:endParaRPr b="0" lang="en-US" sz="4400" spc="-1" strike="noStrike">
              <a:solidFill>
                <a:srgbClr val="ffff00"/>
              </a:solidFill>
              <a:latin typeface="Times New Roman"/>
            </a:endParaRPr>
          </a:p>
        </p:txBody>
      </p:sp>
      <p:sp>
        <p:nvSpPr>
          <p:cNvPr id="5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JM Cost Development Guidelines do address most of these terms and could be used as examples, as these terms are developed and defined in ERCO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5B44F29-23DA-4829-A114-1173929D7A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C Price Components</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imes New Roman"/>
              </a:rPr>
              <a:t>Start Up</a:t>
            </a:r>
            <a:r>
              <a:rPr b="0" lang="en-US" sz="2800" spc="-1" strike="noStrike">
                <a:solidFill>
                  <a:srgbClr val="ffffff"/>
                </a:solidFill>
                <a:latin typeface="Times New Roman"/>
              </a:rPr>
              <a:t> is defined in Section 6 of the PJM Guidelines as : </a:t>
            </a:r>
            <a:r>
              <a:rPr b="0" i="1" lang="en-US" sz="2800" spc="-1" strike="noStrike">
                <a:solidFill>
                  <a:srgbClr val="ffffff"/>
                </a:solidFill>
                <a:latin typeface="Times New Roman"/>
              </a:rPr>
              <a:t>The dollars per start as determined from start fuel, total fuel-related cost, performance factor, electrical costs, start maintenance adder, and additional labor cost, if required above normal station manning level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E: terms such as start fuel, performance factor and total fuel related costs are defined within the PJM Guideline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17458DF-A0B2-4704-B72F-B8B7BB8662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C Price Components</a:t>
            </a:r>
            <a:endParaRPr b="0" lang="en-US" sz="4400" spc="-1" strike="noStrike">
              <a:solidFill>
                <a:srgbClr val="ffff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imes New Roman"/>
              </a:rPr>
              <a:t>No Load Cost</a:t>
            </a:r>
            <a:r>
              <a:rPr b="0" lang="en-US" sz="2800" spc="-1" strike="noStrike">
                <a:solidFill>
                  <a:srgbClr val="ffffff"/>
                </a:solidFill>
                <a:latin typeface="Times New Roman"/>
              </a:rPr>
              <a:t> (in $/Hr) is defined in Section 2 of the PJM Guidelines as : </a:t>
            </a:r>
            <a:r>
              <a:rPr b="0" i="1" lang="en-US" sz="2800" spc="-1" strike="noStrike">
                <a:solidFill>
                  <a:srgbClr val="ffffff"/>
                </a:solidFill>
                <a:latin typeface="Times New Roman"/>
              </a:rPr>
              <a:t>the total theoretical heat or fuel input at zero net output multiplied by the performance factor, multiplied by the total fuel related cost plus the no-load additional labor cos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zero net output is derived from test data or through extrapolation of the theoretical input-output curv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ms such as no-load additional labor cost are defined within the PJM Guidelines</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FD359A8-373C-493A-9D0F-F307ED92C3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C Price Components</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imes New Roman"/>
              </a:rPr>
              <a:t>Minimum Load/Minimum Energy</a:t>
            </a:r>
            <a:r>
              <a:rPr b="0" lang="en-US" sz="2800" spc="-1" strike="noStrike">
                <a:solidFill>
                  <a:srgbClr val="ffffff"/>
                </a:solidFill>
                <a:latin typeface="Times New Roman"/>
              </a:rPr>
              <a:t> are not defined with the Guidelines, however there is a formula for minimum energy costs wherein it is defined as: </a:t>
            </a:r>
            <a:r>
              <a:rPr b="0" i="1" lang="en-US" sz="2800" spc="-1" strike="noStrike">
                <a:solidFill>
                  <a:srgbClr val="ffffff"/>
                </a:solidFill>
                <a:latin typeface="Times New Roman"/>
              </a:rPr>
              <a:t>the hourly cost to operate at a minimum rat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imum rating is defined within the calculation</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COT Protocols do have a definition of “Low sustainable limit” perhaps that could equate to the minimum load definitio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A5668AF-1088-4868-A755-D95CDD6509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t>
            </a:r>
            <a:r>
              <a:rPr b="0" lang="en-US" sz="4400" spc="-1" strike="noStrike">
                <a:solidFill>
                  <a:srgbClr val="ffff00"/>
                </a:solidFill>
                <a:latin typeface="Times New Roman"/>
              </a:rPr>
              <a:t>Make Whole” Provision</a:t>
            </a:r>
            <a:endParaRPr b="0" lang="en-US" sz="4400" spc="-1" strike="noStrike">
              <a:solidFill>
                <a:srgbClr val="ffff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E6006F7-8BCE-4283-913A-02D6C45EBC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6T20:16:16Z</dcterms:created>
  <dc:creator>i013996</dc:creator>
  <dc:description/>
  <dc:language>en-US</dc:language>
  <cp:lastModifiedBy>i013996</cp:lastModifiedBy>
  <dcterms:modified xsi:type="dcterms:W3CDTF">2004-01-19T22:51:32Z</dcterms:modified>
  <cp:revision>15</cp:revision>
  <dc:subject/>
  <dc:title>RUC Bidding Components</dc:title>
</cp:coreProperties>
</file>