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68E-A278-480F-899D-13C03CA6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8B8-6C3A-4E83-AD36-75C170A1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273-707B-4F71-BFCB-8C94D46F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28E-9994-4828-B98E-489DFE9C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AA4-16E8-4576-9D32-4F4E186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5CA-6129-48AF-9BE3-5636C1C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E81-C90F-4CEB-8612-6AB15041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F91-1B13-4DE7-9E83-BA9E5DB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621-D1D7-45E9-9906-98D64D0F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970-1276-43D4-A89E-4DC2F34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1E4-1194-40FD-A2EA-A1183E1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591-A94A-4BAE-9238-1CE0D27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70D-4373-4225-AEF2-EF81C4270AAB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3A6-5ECC-445C-90CA-A1709BB2C7F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Market Mitigation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abel Flor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20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ast Meeting Dat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12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~20 attende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F13-1B5F-4FE7-9227-F027F18FB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sentation on Market Mitigation principles and a draft concept for consideration for Texas Nod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interest in the type of Automated Mitigation Procedures (AMP) used by NYISO or CAIS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FC3-67C4-4B71-B94B-57C6D3E10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Topics for Upcoming Meetin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view white paper drafted on Texas Nodal Market Mitigation Propos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ddress issues referred by other Concept Grou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97C-30A2-472E-8C5B-E81C91F06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Future Meeting Da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22 – Review Texas Nodal Market Mitigation propos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26 – Joint meeting with the Congestion Management Concept Group to address CRR issu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2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nel Discussion TB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DAE-E9F1-4865-A2EC-57D971BC4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tions for T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ne at this ti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176-5FF7-454E-AE72-B45182C2C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if/ercot</cp:lastModifiedBy>
  <dcterms:modified xsi:type="dcterms:W3CDTF">2004-01-19T21:07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9177451</vt:r8>
  </property>
  <property fmtid="{D5CDD505-2E9C-101B-9397-08002B2CF9AE}" pid="3" name="_AuthorEmail">
    <vt:lpwstr>IFlores@ercot.com</vt:lpwstr>
  </property>
  <property fmtid="{D5CDD505-2E9C-101B-9397-08002B2CF9AE}" pid="4" name="_AuthorEmailDisplayName">
    <vt:lpwstr>Flores, Isabel</vt:lpwstr>
  </property>
  <property fmtid="{D5CDD505-2E9C-101B-9397-08002B2CF9AE}" pid="5" name="_EmailSubject">
    <vt:lpwstr>MMCG update for TNT</vt:lpwstr>
  </property>
</Properties>
</file>