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BBCB-BF21-4331-9051-2EC02716E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B934-2937-4B94-A2DA-D6EB6AB0D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EE81-F5EA-45F0-AB10-E4D030117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2EBE-2ACD-4837-8EDD-45AC311B6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E0B22-5BB5-4E42-B222-766C4FC4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6C4C-C9DD-4E85-BD69-1AA924A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B277-C9E0-4F6C-BE69-3B615609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09F71-6FDB-4A88-8A9B-0773C11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0154-30C9-44A3-A8FF-7A90AD1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09894-5A8B-470D-A980-9700270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BC54-AE42-4DB7-A28A-B5DBB9C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A068-EAC6-4351-91F7-65244F7FF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880F0-824C-4C75-A7C2-A3E62203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3402A-1A10-4A36-9597-DA71A54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C73B4-ADD6-442D-A0F5-EC16549A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5319-5DC0-450E-8EDB-24B13B0B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07E7-1128-4949-A2A2-A881CDDA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F79D-1094-479C-8A00-AC3117D38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CE0B-AD26-46A0-B03E-6EB99DF0E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BEA9-37DD-4BBB-BFCD-24A74410E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FA7A-6AF0-4828-8016-033E96692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F2D2-3592-4BDB-9389-B85A0AF57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DBDC-FAF3-4F2E-B729-4A8238382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587B-AE87-48B9-B5F1-0B8570ADE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C0BD-5FAD-4105-97AB-097D6E3E4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76520" cy="901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06668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228600" y="152280"/>
            <a:ext cx="8229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282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5PRR ERCOT Comments Attachment-1 071103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4495320" y="64008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C9D2-D788-4393-BF3B-A4359C9FF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914400"/>
            <a:ext cx="70866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23623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70102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5PRR ERCOT Commen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achment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on of OOME Down Cost Associated with Planned Transmission Ou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4962-4AB6-4A94-9E20-04FB8486F27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/11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OOME cost associated with Transmission Planned Outages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Description:</a:t>
            </a:r>
            <a:endParaRPr b="0" lang="en-US" sz="26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CO requested a planned transmission outages from mm/12 to mm/21. To facilitate this transmission outage request, ERCOT has to limit the aggregated output of 6 units which are connected to the bus of transmission line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outage period, ERCOT has to OOM down the output of one or more generators based on their premium and pay for the energy deploy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3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only provide the cost associated with energy deployed. Some other costs, like OOMC cost for voltage control, manual instructions,  are not included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0880"/>
            <a:ext cx="5867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DEC2-26FF-4A5C-BBF3-B507ADBE8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e outage period, ERCOT deployed totally 80,231 MW Down OOME, spent total of $3.38 million in 10 days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daily capacity deployed is 334MW. Maximum daily capacity is 561MW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is transmission outage is scheduled during the maintenance period of one of the generators with, say, 600MW, the total cost of the OOME would be Eliminated.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A22F-E865-4E62-AA02-5DAFE950A3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6218280" cy="37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2182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E96D-9E2D-4FC6-8EEE-E2F97CE0A6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523880"/>
          <a:ext cx="6526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526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3FD5-AC16-4822-8469-7FAE91816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1600200"/>
          <a:ext cx="6300720" cy="377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3007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78AA-C118-4C99-99C3-AC48CA6FB9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-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52480" y="1676520"/>
          <a:ext cx="6077160" cy="36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7160" cy="36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7FF5-9A94-488B-B4F9-02F4F860F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6:41:13Z</dcterms:created>
  <dc:creator>Yonggang Li</dc:creator>
  <dc:description/>
  <dc:language>en-US</dc:language>
  <cp:lastModifiedBy>R Poston</cp:lastModifiedBy>
  <cp:lastPrinted>2000-04-06T20:17:02Z</cp:lastPrinted>
  <dcterms:modified xsi:type="dcterms:W3CDTF">2003-07-11T20:23:57Z</dcterms:modified>
  <cp:revision>869</cp:revision>
  <dc:subject>Texas Commercial Operations</dc:subject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13412382</vt:r8>
  </property>
  <property fmtid="{D5CDD505-2E9C-101B-9397-08002B2CF9AE}" pid="3" name="_AuthorEmail">
    <vt:lpwstr>LGrimm@ercot.com</vt:lpwstr>
  </property>
  <property fmtid="{D5CDD505-2E9C-101B-9397-08002B2CF9AE}" pid="4" name="_AuthorEmailDisplayName">
    <vt:lpwstr>Grimm, Larry</vt:lpwstr>
  </property>
  <property fmtid="{D5CDD505-2E9C-101B-9397-08002B2CF9AE}" pid="5" name="_EmailSubject">
    <vt:lpwstr>Draft February 3, 2003 WMS Meeting Minutes</vt:lpwstr>
  </property>
  <property fmtid="{D5CDD505-2E9C-101B-9397-08002B2CF9AE}" pid="6" name="_PreviousAdHocReviewCycleID">
    <vt:r8>2067941159</vt:r8>
  </property>
  <property fmtid="{D5CDD505-2E9C-101B-9397-08002B2CF9AE}" pid="7" name="_ReviewingToolsShownOnce">
    <vt:lpwstr/>
  </property>
</Properties>
</file>