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  <p:custShowLst>
    <p:custShow name="Custom Show 1" id="0">
      <p:sldLst>
        <p:sld r:id="rId4"/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F289B-CA19-45CB-AFE3-01F8B26C93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99F9B-7336-408A-B415-BBF4644A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26059-2A36-4D70-87F8-21E2B3A3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19226-6690-4FD9-8293-0DA51EB53A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46880-F07F-4C39-B13C-7F79BC43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AF4F6-B44F-436D-96CD-C3F3DF9A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F5B60-8A46-4AAA-BDA8-CD33E261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81A4F-E221-45D8-A9CA-9878C90F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5511D-6378-4406-B6F5-0895552A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057400" y="228240"/>
            <a:ext cx="67802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568F2-CF1E-489A-ACEB-CB0D53CC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52D45-121A-4543-A0AB-C6677E57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9CDE6-D7AA-4EFE-ADD1-D44C01EC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E403D-9266-49EC-A629-0D631CDF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A50A4-BA29-47C3-8D1D-2DAB9595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7FCF5-9BC4-4DBF-8BC7-787E9F12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2C269-A710-47F8-9D07-66871CCC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FA988-2917-4497-85FB-3DEA32F1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879F4-4416-4290-A6BB-873AA3B1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A2104-CD81-44DA-BAE4-2D951A80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20485-BC0B-4A04-97F3-05A516C3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7400" y="228240"/>
            <a:ext cx="67802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55D46-2A62-4572-A931-6760A4E9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42511-8783-478C-AD75-7763280E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A825E-8803-4C16-886E-0238AED2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44671-312A-4C75-A5A3-1DBF16BD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467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6B52-2D8D-4429-8599-C7B0A1654D4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61944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E882-CAC8-48D2-A9B1-CF8BF24C7E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1676520" cy="901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720" y="6477120"/>
            <a:ext cx="1725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Property of ERCOT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76320"/>
            <a:ext cx="1676520" cy="90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C Half Banner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71467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E89F-1003-46B5-B330-DE6F88B042A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-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361944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F57A-749C-487C-A098-843BDEF3E0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600" y="6553080"/>
            <a:ext cx="1725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Property of ERCOT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0400" cy="1722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00400" cy="1722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E ESTIMA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4038480"/>
            <a:ext cx="6326280" cy="152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C97A0-52FC-4303-9EE9-3E6FC3EF3CB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B89927-8E37-48CF-91E7-0A81654F50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lters real time measurements and estimates the state of the system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dentifies bad measurements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nitors the system state    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itialize the congestion assessment application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etwork Model Building – time filtered bus loads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sults used for RT Contingency Analysis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27DDD-FEC5-400A-8E10-41A4344910B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44E8E-0724-4B21-A5CF-0F0DD7C4BF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 changes brought online almost weekly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ew Construction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rket Model – Entity relationship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 Improvement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 solution is executed every 5 min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vergence Rate – 95% or higher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pproximately 0.5% of buses have mismatches between 15 MW  and 25 MW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A5F7A-4B6F-49C4-ACB2-4B79F18F630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B8164-0AD8-4C32-A16B-4F8655692F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GO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chieve a Convergence rate of 99.5%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mprove Redundancy 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mprove observabilit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ll Bus mismatches less than 1 MW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ADE86-8918-4CBA-957F-CB0467BE712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D6421-D1B5-432D-BB47-51A4E31DA6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DO LI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ontinuing improvements to network data</a:t>
            </a: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imitive data model refinements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btain/map more measurements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Software enhancements</a:t>
            </a: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Outreach to TDSPs  </a:t>
            </a: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8430C-5BDE-4F39-B5A4-05B4E7EE08B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21CA5-D872-443D-8260-539135FB3E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 Software Enhanc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alculate and store SE performance metrics 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andling communication system outag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ata aging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of pseudo-measurements 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pology Error Identification – lists bad statuse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0B0AE-B4DF-4BF8-A2EE-FF4180D7348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7D326-A536-487A-AA85-006D8BEF8E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reach Pro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dea is to share ERCOT SE results with TDSP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llows TDSPs to better advise on possible model/data error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ssible with EMS WEB display capabilities in Release 3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BE3A9-DA8C-451A-99A7-E4DC7DE2244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BC9B4-459E-4A7F-B57F-451A080A2B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00400" y="2286000"/>
            <a:ext cx="2639880" cy="258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DC901-471E-499D-AAEE-5A626524D18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D5A91-658A-49B2-A509-AB3B101789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5T20:24:45Z</dcterms:created>
  <dc:creator>Manuel Atanacio</dc:creator>
  <dc:description>Presented at the Load Profiling, Forecasting &amp; Settlements Conference;</dc:description>
  <cp:keywords>ERCOT Retail Pros Cons Commercial Operations</cp:keywords>
  <dc:language>en-US</dc:language>
  <cp:lastModifiedBy>Joel Mickey</cp:lastModifiedBy>
  <cp:lastPrinted>2000-04-06T20:17:02Z</cp:lastPrinted>
  <dcterms:modified xsi:type="dcterms:W3CDTF">2004-01-06T21:00:23Z</dcterms:modified>
  <cp:revision>185</cp:revision>
  <dc:subject>Texas Commercial Operations</dc:subject>
  <dc:title>PR-30148 EMMS Release 3.0 Monthly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02490691</vt:r8>
  </property>
  <property fmtid="{D5CDD505-2E9C-101B-9397-08002B2CF9AE}" pid="3" name="_AuthorEmail">
    <vt:lpwstr>jmickey@ercot.com</vt:lpwstr>
  </property>
  <property fmtid="{D5CDD505-2E9C-101B-9397-08002B2CF9AE}" pid="4" name="_AuthorEmailDisplayName">
    <vt:lpwstr>Mickey, Joel</vt:lpwstr>
  </property>
  <property fmtid="{D5CDD505-2E9C-101B-9397-08002B2CF9AE}" pid="5" name="_EmailSubject">
    <vt:lpwstr>Presentations from the Market Operations Group Meeting 1.6.2004</vt:lpwstr>
  </property>
</Properties>
</file>