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6AD0-7CD7-49AE-9BB0-BD2BC3EEB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EFC3-E155-4F1F-80E7-C34E0B0C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6A7E-5690-4279-809C-6E38DFE6B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FA51-C0A0-47BA-90B3-5E0D479B1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B33E-D35D-44C6-8525-1C9F697A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B5BD-F7DA-428E-847C-8BED5D5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F1CC-FAB4-4768-9BC7-9C94F1E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8153-171D-4A66-A0E3-70577CB5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E3C88-7B27-4309-9C96-F32D4D7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A623B-AAFF-44C2-8944-EEFFF30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B4E29-98B3-40F7-9C3D-477AFA7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C0BB-63E2-4EB3-882D-15850AD97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F2331-3393-4C02-AA43-7291758C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7B8B4-806E-43A9-90E5-24EAA40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A35DF-B4E7-46BD-943A-EDC8109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FDA49-2E08-494A-9E89-D596B671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2427B-6AF6-40C1-A31D-8F8A0C71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5E4F-9494-49A8-BE01-594BE723C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4256-3EAA-46C3-A6DB-1A7FD78BC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2331-36DA-4703-9841-9CDF8E322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5349-5D08-40DA-80A5-53452FD5B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0FC8-23EC-4BF0-BDFF-69A135CFA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D431-D663-4F77-B732-D26497DD4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7A24-37B5-46F4-989F-1CE41A263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E3C-2C61-4604-9B1F-8561CF289F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06668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228600" y="152280"/>
            <a:ext cx="8229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82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5PRR ERCOT Comments Attachment-1 0711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449532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8ACF-0F27-401B-9C05-B959BDA437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91440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23623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70102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5PRR ERCOT Commen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achmen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of OOME Down Cost Associated with Planned Transmission Ou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30E9-1A2C-4C1D-B846-1956F358C13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/11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OOME cost associated with Transmission Planned Outages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Description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CO requested a planned transmission outages from mm/12 to mm/21. To facilitate this transmission outage request, ERCOT has to limit the aggregated output of 6 units which are connected to the bus of transmission lin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outage period, ERCOT has to OOM down the output of one or more generators based on their premium and pay for the energy deploy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only provide the cost associated with energy deployed. Some other costs, like OOMC cost for voltage control, manual instructions,  are not includ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4B34-D987-4C48-B4D0-BE26EEE08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outage period, ERCOT deployed totally 80,231 MW Down OOME, spent total of $3.38 million in 10 day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aily capacity deployed is 334MW. Maximum daily capacity is 561M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transmission outage is scheduled during the maintenance period of one of the generators with, say, 600MW, the total cost of the OOME would be Eliminated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0B58-F673-44FB-BCA4-93565E716B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62182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1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0CC8-6F19-4F5D-BCC2-5BE9AEA6B7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523880"/>
          <a:ext cx="6526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526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A130-0FEF-4369-98B8-47F644E39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1600200"/>
          <a:ext cx="630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30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03EA-497C-4FAD-B56F-C9B5C0931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52480" y="1676520"/>
          <a:ext cx="607716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7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3D4D-F281-45BE-98A3-EF2777E381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Yonggang Li</dc:creator>
  <dc:description/>
  <dc:language>en-US</dc:language>
  <cp:lastModifiedBy>R Poston</cp:lastModifiedBy>
  <cp:lastPrinted>2000-04-06T20:17:02Z</cp:lastPrinted>
  <dcterms:modified xsi:type="dcterms:W3CDTF">2003-07-11T20:23:57Z</dcterms:modified>
  <cp:revision>869</cp:revision>
  <dc:subject>Texas Commercial Operations</dc:subject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12382</vt:r8>
  </property>
  <property fmtid="{D5CDD505-2E9C-101B-9397-08002B2CF9AE}" pid="3" name="_AuthorEmail">
    <vt:lpwstr>LGrimm@ercot.com</vt:lpwstr>
  </property>
  <property fmtid="{D5CDD505-2E9C-101B-9397-08002B2CF9AE}" pid="4" name="_AuthorEmailDisplayName">
    <vt:lpwstr>Grimm, Larry</vt:lpwstr>
  </property>
  <property fmtid="{D5CDD505-2E9C-101B-9397-08002B2CF9AE}" pid="5" name="_EmailSubject">
    <vt:lpwstr>Draft February 3, 2003 WMS Meeting Minutes</vt:lpwstr>
  </property>
  <property fmtid="{D5CDD505-2E9C-101B-9397-08002B2CF9AE}" pid="6" name="_PreviousAdHocReviewCycleID">
    <vt:r8>2067941159</vt:r8>
  </property>
  <property fmtid="{D5CDD505-2E9C-101B-9397-08002B2CF9AE}" pid="7" name="_ReviewingToolsShownOnce">
    <vt:lpwstr/>
  </property>
</Properties>
</file>