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2F4-26CF-4717-8C76-A77538FA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80A-5CB8-415B-9B6E-CEA7780E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D1E-E4EB-44D8-BBA9-CD6C2B52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FF8-ECD9-4043-978A-97C70AA4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16D-EA74-43A8-B1AF-D1225A60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5AF-7BB4-43AF-91CA-DF979AC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94C-2C1E-4DD8-BA00-13B38EDD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B28-D1F6-40DC-9147-1E4CD2D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428-983E-4557-B32D-F57F863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72F-8C92-4875-8723-757A240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8F1-CBDD-457C-9430-225E575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376-679F-41C0-8E64-8FF42DE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B6CB-069C-4680-BC4B-B1C68938A3AE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A55-AB18-4DE3-8FC6-16D692CAD76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42876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st Benefit Analysis:  Summary of Protocol Chang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eryl Mosele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vember 12, 2003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79520" y="1757520"/>
            <a:ext cx="419760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68F-9993-481F-9D9E-8DB433B0CC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EFA45-E008-41AF-9C3D-68B0499CBC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ffect of Boxed Protocol Languag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market rules are included 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Protoc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to the market rules are submitt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Revision Requests (PRR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ffective date of some approved PRRs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 date that changes to ERC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are implemented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changes are included in the appropriat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of the ERCOT Protocols as “boxed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the boxed PRRs be included 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Case and/or the Comparison Case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4EA-BC63-448B-B07F-1CC0AF5EDE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5484A-7A60-4477-8596-1E5B6F131D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Retail PIPs/PRR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few of the boxed PRRs only affect Retail Activity; should not be included in either c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06 – Direct Load Contr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*PIP188 – Forward of Meter Read Inform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204/PRR283 – EPS Meter Data Transmitt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12 – Enhance EDI ID Look-up Fun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44 (PRR261, 303) – Move In/Move 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49 – Successful Data Validation Response for 86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ERCOT will be submitting a PRR to remove the language from the box and make it effectiv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5C0-9536-4C0C-9B40-68F21EA87C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F5B89-F12E-40B5-88A8-2988F372B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IPs To Be Eliminate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couple of the boxed PRRs will be eliminated when PRR425 (Modification of Section 8) is approv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17 – Outage Scheduler Acknowledge Receipt Fun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18 – Outage Scheduler Study Time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OT will be asking WMS if the following should be removed from the Protoc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34 – Messaging System Language Clarification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Neither cas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58 – Contents of Dispatch Instructions (Both cas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952-327D-468C-B154-C7D40E64DB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0AE95-FD22-4356-AB3A-1ACEC8D75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IPs/PRRs To Be Included in Neither C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28 – Synchronous Condenser Compens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11 – Direct Load Control for BU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07 – Controllable Resour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6C6-20B4-4E36-912D-461A3E5A51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D8FFE-F2CB-4B4E-8471-16A07B3F5F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IPs/PRRs To Be Included in Base Case Only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71/450 – Minimum Energy OOME w/OOMC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struction (Target Impl. 12/03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97 – McCamey Area Congestion Management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Target Impl. 03/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24 – Elimination of Resource Specific Deployment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nergy Balance (Target Impl. 06/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73/439 – OOME as Instructed Deviation (Target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l. 06/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46 – Disclosure of OOMC Deployments (Priority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.3 for 20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176-6549-4462-8F37-90DD6D41E8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FB6F6-2C9C-46F2-B02E-0FA8A57F5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IPs/PRRs To Be Included in Base Case Only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22 – OOM Zonal Dispatch Instructions (Priority 2.2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2004, Target Release Q1/2 200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54 – OOME Offline (PRR to BOD on Nov. 21,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eds Priori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137/PRR211 – Association of BE Bids w/RPRS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arget Impl. Q1/2 200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13 – Optimization of RPRS for Whole Operating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ay (Priority 1.1 for 2004, Target Release Q1/2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00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94D-8B94-414C-BF31-B625EA558A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584F4-70CE-46B5-967F-A05E083640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IPs/PRRs To Be Included in Both Cas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P210 – Block Deployment for LaaRs for Responsive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d NonSpin (Needs Priority for 20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49 – UBES-DBES Ramp Rates (Target Impl.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06/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42 – AS Simultaneous Selection (Target Impl.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2/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359 – Improve Resource Plan (Target Impl. 06/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23 – Dispatch of Gen. Below Min. Gen. Level (1.2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ority for 2004, Target Release Q1/2 200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AD4-DDAE-4E19-839A-1ECB50BDE1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E888D-E548-4887-8055-45BD22994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IPs/PRRs To Be Included in Both Cas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28 – RMR Scheduling Clarifications (1.3 Priority for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004, Target Release Q1/2 200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102 – Voltage Support Compensation (2.1 Priority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200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14 – Sunset Date for BE Bid Cap (Needs Priori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51 – Clarification of AS Obligation (to BOD on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1/21, Needs Priori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R457 – Balancing Energy Down Requirement (to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D on 11/21, Needs Priori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093-40BF-465B-8F0B-3EC7E26C71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B65A7-2353-4F43-8F4E-2F096A1A3A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seybold</cp:lastModifiedBy>
  <dcterms:modified xsi:type="dcterms:W3CDTF">2003-11-13T19:38:48Z</dcterms:modified>
  <cp:revision>1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  <property fmtid="{D5CDD505-2E9C-101B-9397-08002B2CF9AE}" pid="4" name="_AdHocReviewCycleID">
    <vt:r8>1305940088</vt:r8>
  </property>
  <property fmtid="{D5CDD505-2E9C-101B-9397-08002B2CF9AE}" pid="5" name="_AuthorEmail">
    <vt:lpwstr>lseybold@ercot.com</vt:lpwstr>
  </property>
  <property fmtid="{D5CDD505-2E9C-101B-9397-08002B2CF9AE}" pid="6" name="_AuthorEmailDisplayName">
    <vt:lpwstr>Seybold, Lacy</vt:lpwstr>
  </property>
  <property fmtid="{D5CDD505-2E9C-101B-9397-08002B2CF9AE}" pid="7" name="_EmailSubject">
    <vt:lpwstr>CBA Protocol Impact.ppt</vt:lpwstr>
  </property>
  <property fmtid="{D5CDD505-2E9C-101B-9397-08002B2CF9AE}" pid="8" name="_PreviousAdHocReviewCycleID">
    <vt:r8>-815039529</vt:r8>
  </property>
</Properties>
</file>