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BEFE-CA88-478E-B9FE-3BAB4B1B0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EE9C-48A4-493B-9065-980FC128A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F411-09AA-4610-9BF9-9AAAAE055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ADE2-713B-49E7-8DBD-CB6661B46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1E9AD-9A57-461F-8E09-2B634EED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AF5BA-C182-4DCD-9A56-83ABD23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66B3A-4CD7-43C9-83AD-023AF925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BD10-5DB3-4DFB-9195-5170922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4FCEB-4549-4689-AF5E-490FA8CF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E21FD-57BE-44C1-AA92-71F917A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7D0B3-0265-4E27-A09D-1464BA1D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4550-65EB-4886-B182-836117F25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5F208-5DD1-43C9-9DBC-8319CBF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ABEE-D5D9-4495-90E8-C42E321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816D-4798-460B-BD29-286BCD1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413C-F42D-4116-A368-9C67D271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87364-9980-4D52-98BB-8D591CF7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D32C-5352-4229-A40F-AB4D14ACC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A352-03CE-4EE5-ACDF-C398164CF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3759-EE41-4DB6-8D87-789A05DC8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1905-5C89-4176-9C17-CB36647D3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46D1-37C2-479C-B1EA-71B9878B5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B4E0-FB5B-4880-942B-BC2B3093C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32EC-2FD9-458E-B385-EEC82F53F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12B-5894-48D7-B3D5-93F27C0684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06668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228600" y="152280"/>
            <a:ext cx="8229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82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5PRR ERCOT Comments Attachment-1 0711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449532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0FF-FF63-458C-80C8-D550DE71A4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91440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23623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70102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5PRR ERCOT Commen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achmen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of OOME Down Cost Associated with Planned Transmission Ou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7DF2-3024-4B51-99B2-28205F8B5ED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/11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OOME cost associated with Transmission Planned Outages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Description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CO requested a planned transmission outages from mm/12 to mm/21. To facilitate this transmission outage request, ERCOT has to limit the aggregated output of 6 units which are connected to the bus of transmission lin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outage period, ERCOT has to OOM down the output of one or more generators based on their premium and pay for the energy deploy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only provide the cost associated with energy deployed. Some other costs, like OOMC cost for voltage control, manual instructions,  are not includ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2E8C-2EC5-43D9-AEA5-BE7617951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outage period, ERCOT deployed totally 80,231 MW Down OOME, spent total of $3.38 million in 10 day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aily capacity deployed is 334MW. Maximum daily capacity is 561M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transmission outage is scheduled during the maintenance period of one of the generators with, say, 600MW, the total cost of the OOME would be Eliminated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B03-7E35-471C-A001-43F5351C9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62182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1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F458-2EC6-4422-8C50-FE0547652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523880"/>
          <a:ext cx="6526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526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22E5-1768-4C97-BE30-8A082E1851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1600200"/>
          <a:ext cx="630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30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36B4-EE9D-4F91-BEC5-9AA1CCFC5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52480" y="1676520"/>
          <a:ext cx="607716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7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73BE-5226-4CC8-8D58-FAD8B59D0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Yonggang Li</dc:creator>
  <dc:description/>
  <dc:language>en-US</dc:language>
  <cp:lastModifiedBy>R Poston</cp:lastModifiedBy>
  <cp:lastPrinted>2000-04-06T20:17:02Z</cp:lastPrinted>
  <dcterms:modified xsi:type="dcterms:W3CDTF">2003-07-11T20:23:57Z</dcterms:modified>
  <cp:revision>869</cp:revision>
  <dc:subject>Texas Commercial Operations</dc:subject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12382</vt:r8>
  </property>
  <property fmtid="{D5CDD505-2E9C-101B-9397-08002B2CF9AE}" pid="3" name="_AuthorEmail">
    <vt:lpwstr>LGrimm@ercot.com</vt:lpwstr>
  </property>
  <property fmtid="{D5CDD505-2E9C-101B-9397-08002B2CF9AE}" pid="4" name="_AuthorEmailDisplayName">
    <vt:lpwstr>Grimm, Larry</vt:lpwstr>
  </property>
  <property fmtid="{D5CDD505-2E9C-101B-9397-08002B2CF9AE}" pid="5" name="_EmailSubject">
    <vt:lpwstr>Draft February 3, 2003 WMS Meeting Minutes</vt:lpwstr>
  </property>
  <property fmtid="{D5CDD505-2E9C-101B-9397-08002B2CF9AE}" pid="6" name="_PreviousAdHocReviewCycleID">
    <vt:r8>2067941159</vt:r8>
  </property>
  <property fmtid="{D5CDD505-2E9C-101B-9397-08002B2CF9AE}" pid="7" name="_ReviewingToolsShownOnce">
    <vt:lpwstr/>
  </property>
</Properties>
</file>