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2DA2-325A-442C-AAC1-457E60B1A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0DD4-E4D7-479C-9903-27B9AC649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4BBB-873E-439B-A40C-D96F47B10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BFF4-E585-450F-8044-F2C094533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47E41-6E12-4879-BF2D-CE3EBC96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862D4-5403-4668-B1B1-9B828385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565CB-C909-4C74-9E06-E9621923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7F373-5E9B-4B43-AB61-BE0D2D9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9EB04-9485-47F4-98B8-627AF9A5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5BBED-3C0E-4936-AEB0-DCE2FF6E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1E39-179F-4AE5-80FF-BD3925C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E628-2B76-4876-B399-3AFC4FC16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BBAD6-D181-4077-AD34-B41F59C1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6928-3813-4F33-A351-62B6E4B7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D1165-49A5-4ADA-BF86-593CE129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B01F8-09BE-4818-B233-6640100C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72E3-1F57-4578-81A0-B294F99B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7D0F-6862-4147-BC95-E279A82EA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78AF-B696-454A-A14B-6907B3C4B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CB01-7296-4083-9595-17B70CD98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2F0A-8D86-4E62-9CB3-E3A3FC66D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AD56-E53B-4052-89D2-92292380D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6F0C-4C80-4B6F-A34F-E1A949E88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EC6E-3876-492C-9B6F-4EBE7FB23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0FEF-963F-45BB-A721-BEA616777B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90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7920" y="106668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 Half Banner"/>
          <p:cNvSpPr/>
          <p:nvPr/>
        </p:nvSpPr>
        <p:spPr>
          <a:xfrm>
            <a:off x="228600" y="152280"/>
            <a:ext cx="8229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282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5PRR ERCOT Comments Attachment-1 07110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449532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1EB8-ABB3-460F-BD17-894E54CB43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91440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23623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05120"/>
            <a:ext cx="70102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5PRR ERCOT Commen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achment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on of OOME Down Cost Associated with Planned Transmission Ou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71D17-A889-4428-99F5-E0264941CCF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/11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imate OOME cost associated with Transmission Planned Outages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Description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CO requested a planned transmission outages from mm/12 to mm/21. To facilitate this transmission outage request, ERCOT has to limit the aggregated output of 6 units which are connected to the bus of transmission lin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the outage period, ERCOT has to OOM down the output of one or more generators based on their premium and pay for the energy deploy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only provide the cost associated with energy deployed. Some other costs, like OOMC cost for voltage control, manual instructions,  are not includ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08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2C8F-B574-41F2-8DC0-17230A39A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outage period, ERCOT deployed totally 80,231 MW Down OOME, spent total of $3.38 million in 10 day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daily capacity deployed is 334MW. Maximum daily capacity is 561M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transmission outage is scheduled during the maintenance period of one of the generators with, say, 600MW, the total cost of the OOME would be Eliminated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7F7D-CA76-43C6-B983-E7CEFF71C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62182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2182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FD16-D73B-4603-A8B0-FB97F52350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523880"/>
          <a:ext cx="652608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5260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3FD0-1FBC-4B34-99C7-C7E72E127B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1600200"/>
          <a:ext cx="6300720" cy="37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3007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2F1D-DFE3-423A-8118-3C11D2A2BD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52480" y="1676520"/>
          <a:ext cx="6077160" cy="36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716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45C4-AEEB-48F0-8150-7A2853F220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41:13Z</dcterms:created>
  <dc:creator>Yonggang Li</dc:creator>
  <dc:description/>
  <dc:language>en-US</dc:language>
  <cp:lastModifiedBy>R Poston</cp:lastModifiedBy>
  <cp:lastPrinted>2000-04-06T20:17:02Z</cp:lastPrinted>
  <dcterms:modified xsi:type="dcterms:W3CDTF">2003-07-11T20:23:57Z</dcterms:modified>
  <cp:revision>869</cp:revision>
  <dc:subject>Texas Commercial Operations</dc:subject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3412382</vt:r8>
  </property>
  <property fmtid="{D5CDD505-2E9C-101B-9397-08002B2CF9AE}" pid="3" name="_AuthorEmail">
    <vt:lpwstr>LGrimm@ercot.com</vt:lpwstr>
  </property>
  <property fmtid="{D5CDD505-2E9C-101B-9397-08002B2CF9AE}" pid="4" name="_AuthorEmailDisplayName">
    <vt:lpwstr>Grimm, Larry</vt:lpwstr>
  </property>
  <property fmtid="{D5CDD505-2E9C-101B-9397-08002B2CF9AE}" pid="5" name="_EmailSubject">
    <vt:lpwstr>Draft February 3, 2003 WMS Meeting Minutes</vt:lpwstr>
  </property>
  <property fmtid="{D5CDD505-2E9C-101B-9397-08002B2CF9AE}" pid="6" name="_PreviousAdHocReviewCycleID">
    <vt:r8>2067941159</vt:r8>
  </property>
  <property fmtid="{D5CDD505-2E9C-101B-9397-08002B2CF9AE}" pid="7" name="_ReviewingToolsShownOnce">
    <vt:lpwstr/>
  </property>
</Properties>
</file>