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0238" cy="9212263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191C-FBD9-4515-B77F-1F428F551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82F3-830D-4531-84DE-D65421240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782C-FB7C-4CCF-843D-662C3D84E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B86A-F699-4777-9DA4-9A1B519AE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BF99F-0706-407E-9804-5718CFD1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3C1B3-761B-4BBB-9813-AD3A837A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C74F0-BA66-4144-83DC-5A34DD6A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DCE6D-6242-4D65-A01C-DF918347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5D2F7-32B2-42BA-AABB-4CD2238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0C3FD-C179-4024-998C-5036BBC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52D41-B735-450B-ADB9-D79D7DD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3212-1A30-4EE2-ABFB-4DC760151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D31DB-2010-4EEE-B5E4-1A4BECD7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D7767-AD0D-40EF-9A45-4B0729DB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AEF00-D078-455D-9F94-4F76BEB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23B6A-0653-40B2-8415-87AFCEDE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BF694-3967-463B-873D-D2A5D9F7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630D-CEB7-41F0-8954-FBEBB0CBE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BF50-ABFF-403E-A988-52C75B1F7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57F2-F721-4CF4-B7EA-E39421077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2A62-7F24-4814-B31E-36BB84437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D427-C2E6-4D85-9F84-040C1D579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F70B-7C72-4E2F-AACF-CBD6CD06E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4DD5-3896-44B0-B094-60818CA9E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B28F-73C8-429E-8D66-605A6E845B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76520" cy="901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7920" y="106668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C Half Banner"/>
          <p:cNvSpPr/>
          <p:nvPr/>
        </p:nvSpPr>
        <p:spPr>
          <a:xfrm>
            <a:off x="228600" y="152280"/>
            <a:ext cx="8229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282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5PRR ERCOT Comments Attachment-1 07110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449532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DFBD-429D-4B78-B452-EED1DE08AB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91440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2362320"/>
            <a:ext cx="8839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05120"/>
            <a:ext cx="70102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5PRR ERCOT Commen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achment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ion of OOME Down Cost Associated with Planned Transmission Ou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91AFC-0FC0-428E-85A3-E424038D6AD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/11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imate OOME cost associated with Transmission Planned Outages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Description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CO requested a planned transmission outages from mm/12 to mm/21. To facilitate this transmission outage request, ERCOT has to limit the aggregated output of 6 units which are connected to the bus of transmission lin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the outage period, ERCOT has to OOM down the output of one or more generators based on their premium and pay for the energy deploy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only provide the cost associated with energy deployed. Some other costs, like OOMC cost for voltage control, manual instructions,  are not includ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808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37B2-8F7A-4C3E-9D84-7441CBD625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outage period, ERCOT deployed totally 80,231 MW Down OOME, spent total of $3.38 million in 10 day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daily capacity deployed is 334MW. Maximum daily capacity is 561M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transmission outage is scheduled during the maintenance period of one of the generators with, say, 600MW, the total cost of the OOME would be Eliminated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A3A2-B207-4A71-B1BB-FEFB8FED3C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6218280" cy="37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2182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28CE-4361-4E9B-B82F-AD6BD8F760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523880"/>
          <a:ext cx="652608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5260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B406-EA01-45BF-B3D4-55C18F920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1600200"/>
          <a:ext cx="6300720" cy="37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3007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2B99-01BF-4D08-9081-A7178FFB2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52480" y="1676520"/>
          <a:ext cx="6077160" cy="36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716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D942-2B95-490C-B767-6776E4CE7F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6:41:13Z</dcterms:created>
  <dc:creator>Yonggang Li</dc:creator>
  <dc:description/>
  <dc:language>en-US</dc:language>
  <cp:lastModifiedBy>R Poston</cp:lastModifiedBy>
  <cp:lastPrinted>2000-04-06T20:17:02Z</cp:lastPrinted>
  <dcterms:modified xsi:type="dcterms:W3CDTF">2003-07-11T20:23:57Z</dcterms:modified>
  <cp:revision>869</cp:revision>
  <dc:subject>Texas Commercial Operations</dc:subject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3412382</vt:r8>
  </property>
  <property fmtid="{D5CDD505-2E9C-101B-9397-08002B2CF9AE}" pid="3" name="_AuthorEmail">
    <vt:lpwstr>LGrimm@ercot.com</vt:lpwstr>
  </property>
  <property fmtid="{D5CDD505-2E9C-101B-9397-08002B2CF9AE}" pid="4" name="_AuthorEmailDisplayName">
    <vt:lpwstr>Grimm, Larry</vt:lpwstr>
  </property>
  <property fmtid="{D5CDD505-2E9C-101B-9397-08002B2CF9AE}" pid="5" name="_EmailSubject">
    <vt:lpwstr>Draft February 3, 2003 WMS Meeting Minutes</vt:lpwstr>
  </property>
  <property fmtid="{D5CDD505-2E9C-101B-9397-08002B2CF9AE}" pid="6" name="_PreviousAdHocReviewCycleID">
    <vt:r8>2067941159</vt:r8>
  </property>
  <property fmtid="{D5CDD505-2E9C-101B-9397-08002B2CF9AE}" pid="7" name="_ReviewingToolsShownOnce">
    <vt:lpwstr/>
  </property>
</Properties>
</file>